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  <p:sldId id="279" r:id="rId65"/>
    <p:sldId id="280" r:id="rId66"/>
    <p:sldId id="281" r:id="rId67"/>
    <p:sldId id="282" r:id="rId68"/>
    <p:sldId id="283" r:id="rId69"/>
    <p:sldId id="284" r:id="rId70"/>
    <p:sldId id="285" r:id="rId71"/>
    <p:sldId id="286" r:id="rId72"/>
    <p:sldId id="287" r:id="rId73"/>
    <p:sldId id="288" r:id="rId74"/>
    <p:sldId id="289" r:id="rId75"/>
    <p:sldId id="290" r:id="rId76"/>
    <p:sldId id="291" r:id="rId77"/>
    <p:sldId id="292" r:id="rId78"/>
    <p:sldId id="293" r:id="rId79"/>
    <p:sldId id="294" r:id="rId80"/>
    <p:sldId id="295" r:id="rId81"/>
    <p:sldId id="296" r:id="rId82"/>
    <p:sldId id="297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slide" Target="slides/slide24.xml"/><Relationship Id="rId66" Type="http://schemas.openxmlformats.org/officeDocument/2006/relationships/slide" Target="slides/slide25.xml"/><Relationship Id="rId67" Type="http://schemas.openxmlformats.org/officeDocument/2006/relationships/slide" Target="slides/slide26.xml"/><Relationship Id="rId68" Type="http://schemas.openxmlformats.org/officeDocument/2006/relationships/slide" Target="slides/slide27.xml"/><Relationship Id="rId69" Type="http://schemas.openxmlformats.org/officeDocument/2006/relationships/slide" Target="slides/slide28.xml"/><Relationship Id="rId70" Type="http://schemas.openxmlformats.org/officeDocument/2006/relationships/slide" Target="slides/slide29.xml"/><Relationship Id="rId71" Type="http://schemas.openxmlformats.org/officeDocument/2006/relationships/slide" Target="slides/slide30.xml"/><Relationship Id="rId72" Type="http://schemas.openxmlformats.org/officeDocument/2006/relationships/slide" Target="slides/slide31.xml"/><Relationship Id="rId73" Type="http://schemas.openxmlformats.org/officeDocument/2006/relationships/slide" Target="slides/slide32.xml"/><Relationship Id="rId74" Type="http://schemas.openxmlformats.org/officeDocument/2006/relationships/slide" Target="slides/slide33.xml"/><Relationship Id="rId75" Type="http://schemas.openxmlformats.org/officeDocument/2006/relationships/slide" Target="slides/slide34.xml"/><Relationship Id="rId76" Type="http://schemas.openxmlformats.org/officeDocument/2006/relationships/slide" Target="slides/slide35.xml"/><Relationship Id="rId77" Type="http://schemas.openxmlformats.org/officeDocument/2006/relationships/slide" Target="slides/slide36.xml"/><Relationship Id="rId78" Type="http://schemas.openxmlformats.org/officeDocument/2006/relationships/slide" Target="slides/slide37.xml"/><Relationship Id="rId79" Type="http://schemas.openxmlformats.org/officeDocument/2006/relationships/slide" Target="slides/slide38.xml"/><Relationship Id="rId80" Type="http://schemas.openxmlformats.org/officeDocument/2006/relationships/slide" Target="slides/slide39.xml"/><Relationship Id="rId81" Type="http://schemas.openxmlformats.org/officeDocument/2006/relationships/slide" Target="slides/slide40.xml"/><Relationship Id="rId82" Type="http://schemas.openxmlformats.org/officeDocument/2006/relationships/slide" Target="slides/slide41.xml"/><Relationship Id="rId83" Type="http://schemas.openxmlformats.org/officeDocument/2006/relationships/slide" Target="slides/slide42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dt" idx="1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 type="ftr" idx="1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 type="sldNum" idx="1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A761-14E6-4988-8991-0FC30F35BA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579B-E39A-4510-8F6F-FA44284555E9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CFC-D207-4556-8C8B-9B26DDCE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8C7-8323-4683-A437-3EE45EFF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731F5-F4B8-4EC9-982E-0B8FBBB4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09DB9-6913-44A8-8683-5BAB56A1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5C0A5-2638-4282-8676-284BB755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F7335-E559-4369-879F-A89A6776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37109-791D-4FFD-A32C-39B28E1D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752E2-63EB-42AB-B37E-D7066633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EE666-CB0A-4522-AE06-6D9CECDC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0B8CA-15E8-429B-8D01-6E6AF868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D8157-D60D-4C05-B90E-A703781B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EDC52-6CCF-461F-BDBD-9D1F9457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654-C13E-4B33-8D0A-383B15A8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9F45C-07EB-493F-BAF0-53E911E0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42272-9B76-4AAD-8ADD-A2D50697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471AB-5B12-4F9B-BD45-9F64FC82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15D02-9654-4FE6-8537-6A392CC1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6D81E-0D26-4A7C-B520-DE67BD44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89519-3D72-44F2-B37E-62BBA3E0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C69AC-CA82-4557-BAA0-7DE79A7E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02213-F9AE-4B3A-9364-FCDD34D7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ABCFB-B410-44D3-AEBA-E6D09C9E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0C22F-68FF-4A08-8DF1-140C141E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7EA-4D0A-4932-9299-8F904C07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F722E-83C6-4E7E-B63E-BC4E13A6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006E5-7DF9-4D93-B2AF-F6FBE247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7FD95-219F-4BCF-9D04-4C305683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0F47B-E472-4FE0-83FD-285011D0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F0E9B-4097-4F1F-BFF2-A3C75FC5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014A7-0165-48BF-A1D5-2D9C2E04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D3011-E6FE-4D77-A8B4-1E9B4B76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05F12-6F72-4B0D-8FB5-39A25E4B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BC7B8-4D8F-44A2-B868-7D1747E3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77EDA-5F8C-4FC2-BAB8-1F8F96E7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F60B-834D-4149-AF6E-6A5A3DB7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6CFBF-6176-4F58-92F7-ECFB000B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37E74-C8DF-4948-A9CC-A0379686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DA553-40A9-4994-906C-BF736D89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5276D-A04B-4539-BD70-D8CBDD99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2A22B-7652-4609-AA82-7CD3B806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55F0E-4FD4-487C-8D3E-2199436D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EF9EE-BCB5-4BE4-A646-1EB3CBC5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EDA09-4060-4B62-8598-8DE5D4B6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F924B-1341-4C34-91FD-2FF1A67B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37037-7BBC-465A-B145-0305631A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7997-DEAC-4EAE-8D89-909A4422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8904D-7972-44BD-92A5-538A5B60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3EA04-C5C5-4C71-9757-97F66E28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4F2EB-42F1-41CF-81B9-176EF625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CD64A-D54A-4BCF-8EC2-D3C47918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CB01E-D972-40F8-AA8E-390B1F91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D45FA-9D9F-4B79-AE53-0F54B00F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C8ED0-C20B-459A-9E77-55CE37FB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50B87-5192-4B6F-AFDA-AA171907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EB696-0D46-42BC-96E5-463CB67B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1C01D-FA68-4EC0-B338-94686316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D92D-B04E-4204-A868-E3D9E971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2FFC5-D1FF-4CA4-962A-C0F63C79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609F49-769B-4F5B-B88D-713EB29D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1F433-6B1E-4087-A48E-5200EDD7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4D6F6-A513-40AE-BFD5-7328F123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88259-5CD5-4381-A7C2-D3153A53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3E4968-A259-4B7D-985C-742C3072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333C6-71BC-4564-9601-67329BE2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AE6C9-1D42-4F0D-AF4A-61885A08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F3AC2-2329-44BE-BA24-9B608F3D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24380-31AA-4F82-87A6-6775B177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6B4E-757C-4DAC-BEF7-14B32855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38FAC-CD95-43AE-9237-784FAEB0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28748-3FB1-4F4B-969F-F52E1B49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4B74B-2192-415C-B717-265DD539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1D978-A125-4721-9656-FD050B9B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BD28E-3CD5-48B8-B159-A797684D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F3B8FB-BAD6-4336-95C6-043FE0F7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4FFA8-9BAF-487D-A233-F5197BD6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6BC0F-9F1F-452D-9483-C60A3EC6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D7A61-7D28-4700-B89E-31CAEC7D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5EF63-22F0-40DD-834B-68569B30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379F-9EB3-4E54-A43F-1082D09E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D821B-9A87-43A0-A658-459625A2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0B0E0-1F96-4C75-AA01-ACEDE0E4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D7A3A-4527-4E16-B31C-D485A30D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11005-1CD4-4276-A790-4FF0FE38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E9079-0FD8-4C83-83A1-A7E387ED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7B8E3D-B2E5-44D4-AEBC-289D8BD3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F1B37-EDE3-492B-B51C-ECF03999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F64C4-D0D5-4009-B0AD-F3BEE6BA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1AD1C-97C0-40AE-B823-132D4804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D6AED-9BFA-489C-BAEF-B6A70F75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C1C8-6BF3-467D-8235-BFDE19E6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F2C42-D2A3-462C-B1C5-4C1AF89A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BCA48-4ABF-4BE1-9F9F-1015A4FC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6C8363-2776-40BB-B070-4025C85A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32612-0C38-4FE9-A7C1-8E25E354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E2F6F-A7C6-4A87-8013-8D112BC2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387988-A97C-47D4-8123-8C9812BE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1448B-2B9D-4C75-94A6-52B2D9FD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EA133-B294-48DE-945B-9C593FA0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CDD9F-22C1-4DFA-BB29-1D56807A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103845-8C98-45EB-ACDC-032EFCE6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DB82-DCFE-4473-8D16-137A318A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8FD3CA-8757-4B78-AB35-C19A4038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1E42C-BB6C-40F5-9174-71D0B005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D205D-433E-4F3A-9367-F8B5BE33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C99C2-1516-48D2-8548-4C3BD0D3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F454ED-9139-4774-BC18-034CC278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816F30-B44A-475E-9504-AE885E52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F11ED-BF9B-4876-8EE5-424F4E15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AD58A-1E8A-478B-A1D5-9C1EE6DD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55B89-3476-4416-9C22-4B3194CE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E13BC0-DB66-4548-808F-AB7223AC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4A1-BF9D-49A9-B2A4-DCEBA111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7FE9-55B1-40A3-A6E2-64DCF47B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A556B-348B-45A2-866A-C3DCDE18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F643E4-1A5C-4328-954B-E619984F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29DD6-919B-4295-9871-C2401EAA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60268-2611-4EF0-ADAB-04BE5AA8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D1FE26-B21A-404A-82C5-AEBA1278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441451-0C08-4679-9E06-13FCB716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24DEB-E6BA-4BE1-A214-14214CC3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2AAADC-5054-4FE1-989A-97993CB1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3F80F-78C8-4F1C-9968-FA58FA37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3AF62-BC73-47AD-8BDE-82605336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B8E3-0848-4C60-89B8-A2C08ECC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480241-C2A3-49EE-8924-63693C28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AA321-0460-462A-82DC-8228D894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2A8FBB-8FA3-4ED8-8216-42CBC57F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A9CCC1-9DF6-4BD0-8CF4-AAC6D27A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1B62C1-F356-4A87-9E9B-B790A4F7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1CACFF-76D2-47F4-BA06-D8D03876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EB3F51-8193-4931-A96B-89E2A5F4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2346F-0E9A-45E6-9CA5-B63A406C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A2C97-36CC-4D16-A370-FE5FD2F2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0BF84B-2218-4AB7-AB2D-B57F7DC0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3477-BC6A-4BEB-9AB8-0B2BC9C6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D0B91B-872F-412B-9F9D-CAB3394D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C0D0A-5510-4919-9D98-C5539EFF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F86AE8-A336-4C04-996E-D0EA9664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D9E960-3442-4B14-8174-830EA82D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2151D9-DC79-4303-896D-0046D49D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ECA9E-CE7C-4854-BB5C-4E6C67A2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CF4FD-4151-4584-AF7F-F729F2F1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075CD6-D04C-4481-B5C2-FB7D0412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3DAA9B-BD86-406F-814C-CAB9DE84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00AA68-2BC9-4068-BAF5-EF7AB188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614D-D43A-4C2E-AE7E-FBDBB699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67F02D-1673-4184-AB67-BF192E34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E54D2-3202-4F34-8ECD-60C9E929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50549E-6F24-4D6E-9DFC-A03D912A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C27162-2220-4C0F-9529-E09692A5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9CDAF-2F32-41D7-8F59-2EA0C18F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5B887-09B0-4BE7-B6CA-D2F2CCB4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797C4B-3EAC-47E7-B1DC-54785F54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6F2572-2BB0-4450-9B8A-8DBF803F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390F45-87F7-41C5-AE69-717FEA1D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1CAD50-11D0-405C-A32A-08799CCD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948F-3114-4202-96AF-F698C1C4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543E86-4919-445E-A96A-F43A891B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033850-A96F-4708-86BC-53ACFFA9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381917-4186-4B05-9500-1AEA7493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0A293B-78E8-4C4A-A587-55CDC9B3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1A5228-0FC3-4983-8150-6D041954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E6D0BE-668F-4A29-A2FE-5EFE10BF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E8BFF0-F540-4D2B-89AF-61A636E5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B5476B-F86B-4A70-90AF-93A9BC0A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E4DF0C-0586-44F1-85F2-767008C5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3633CF-C56B-4F28-BB05-7CD000AA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D82B-614F-43CB-912C-3CDD6526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FBF712-722B-4380-B93D-2799F685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D03070-EB3D-4C61-B57F-A6E04D63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FAFF6C-9684-46CF-8453-D81A9B97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D53E5E-0644-4878-B1C5-B7C37309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579563-8A4A-4663-9318-76B3A4A1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A0BF8A-E216-4D6B-9120-E6802D4E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7887ED-5BD0-42EA-9776-49CDEEA9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454255-8DCA-457A-9483-2B75BFE0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2BDCAD-BA6D-41F7-847D-3AF045CA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E975FB-DCE5-4C0E-9B67-4BA5C5F2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3521-E940-4B68-9ECC-318AD3FE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37B6A9-5A77-477B-ABEC-EBC4C87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6A4CB7-2A9A-455E-8B9D-89BBC924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5DB446-2CA9-4BC5-A285-CB59AB75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4CFE54-39CE-4AA8-9105-0983B3CA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B1D9AE-1712-4F0E-8DDA-3EB6E6BD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9F6C70-E1D1-4604-B303-035D0B03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D62820-4ED1-4791-A96B-AEDD4EBA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808006-258D-4B54-AB71-AF39A5AB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8CFB38-D8DA-4482-BA3E-9393F8B9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37429F-23A7-4887-8C52-40DBB6DC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914B4-9536-40AA-B7B7-9883FF61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3D41E9-2864-451B-81B8-88C3E19C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52582C-2354-4698-BEDB-AA0CF0AF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C13442-8A74-46B4-B45D-6DB809E0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0DD794-7FD3-4C05-9237-A27A5142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CC7B20-AD36-40D3-BCCA-E1EE8D49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EA89EF-E98D-407A-B043-21D52F1A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A850B5-581C-47FF-9550-3F09FA53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795175-32DF-4D60-B3EF-AED7B524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B7B971-D759-4E34-8063-E80D758A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F68E4C-6A34-4E04-B352-5FCC6592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D277-F923-483D-B1C8-3D73B7C5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A16564-B076-49D7-978B-94DFB502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F90566-B739-4A0A-B27D-FF7E4A4F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EC5256-F94B-4FC4-AF9C-3DFDB534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0154DF-B41F-4703-BF1E-D33735A7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1C73CE-9FAF-4057-8A3B-1247EF53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046F1B-24C4-4118-910C-01CED940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FE84DF-25F6-49AF-A62B-E3E16578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D5AE13-0D7B-4EE2-845B-A0B510EF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5E855E-32F0-4BCE-B043-133F2AD1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69B139-6871-4CDF-8011-B2E734E7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FD4F-8D26-475B-B411-FF156CF2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4BF422-CDE6-4068-9E31-63698BE1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DE3CC1-F0EC-4FD4-9685-6B8C8133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6ECC66-1EFA-4880-95C6-C9F8C315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8F8BC1-5A36-479F-BD7A-B419A812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533038-F067-4F84-8D19-D48A61EB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53D03F-F068-4A4A-B94D-97A9417B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27DF3F-8C1D-4F90-825F-3F2D10E0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91B0E2-768D-49E3-9DAB-712831F0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F3C904-A7F8-450B-A755-B59CB37F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817F3F-3AE0-4E05-BF6B-A6171A62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159-9943-45C8-B581-3901A0E4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77CF-09AD-440D-A700-0D4BCA7A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82C0CE-093E-4907-BB68-71010A50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096E1A-615D-475D-AF6C-5A763F6A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4F7265-CD84-461D-B072-063111C0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020681-784B-48C0-BF9A-D972CCBB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36B57C-437E-43C3-B07A-47F48F74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11B6DD-C406-44DC-91B6-2790EE58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C46920-D86C-410D-A3A4-B950D2DB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AF9370-9F1D-4ADB-846D-7C060C81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15E0E0-694B-442E-9856-8B395C1A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9D856C-978A-46A0-8A22-C198E78E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B2327-06D9-4B2B-87B2-B7C40366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862D6C-991D-478C-AF59-14F5CDF2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FAE522-79BE-49D7-B4B2-2283C65F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82B703-E14A-4802-9A51-F759D144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D8F373-8C97-47FE-A835-3173EB8F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A382E8-6390-44E6-BE49-7CCB65D3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F23114-EBD2-4419-B4FA-2A279E8A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25D58B-8D14-494D-8C84-FEFD4E5D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63FBFC-D9A4-4FD8-A0B9-6A38E8CC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B7A91A-1689-42DD-A2C2-B4BEA335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BFB30D-DB5B-4F69-BAF4-21FB91EC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D0ADC-ACC1-42E9-8BDF-E2CAA497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972DCC-46A3-482D-AC14-4B77FFA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AF0A3F-AC3D-41BC-B33D-EFABAAD2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C571C8-F1A6-4A51-B3DE-A9579B9C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9BF1C1-A63C-46DD-AEF8-50D6027F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3605FB-9D4D-4E3E-A5FF-0272BDDA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0527AB-9624-4EA0-A4E3-21F5102A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618EFE-1B5B-44F0-B85A-CE932B00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546A92-7E0A-431E-890F-4BE442ED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C8D625-5689-4B77-8380-1800F418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EA785D-8826-4C3F-A176-071B3720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BE9D4-5265-4916-969A-27137286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709F0B-68A2-4F5C-9DBA-E636579B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D88DB4-CDB1-43C1-BDBA-547DD71E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DD6433-6DDF-4AA4-BE45-BB5DB83C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2F79B3-2C3F-40B3-ADB8-B7E19693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83BB17-5673-4444-9D91-D95934C8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E1B0D7-6A04-4065-996B-83484663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4596DA-4C10-4E54-B089-0BFDCAFF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529C81-4691-4459-8ED3-DEC54CDB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11CE97-4F83-4DFF-8D9A-E3379E4A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D15E38-E8E8-4FB9-B5FC-30839FEE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45B32-E43F-46FE-AB27-CA2311FE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70734A-8FFE-4568-AC2D-52927563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141B91-6801-4AA6-99BD-724544AE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272C32-B024-4B96-90B1-F7EF071D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614D1E-904F-4E53-A0DD-2B86EA2B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787FBD-A573-4AEF-A8F8-765348D8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FE0113-C74C-4206-92DD-9C1489C7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ABAB9A-EE10-4143-96AD-4D34730A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79EAF0-F138-4B1C-B517-6C16D91D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C61CF2-1752-4C82-9955-7CA64448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B3F546-DECB-4579-B32A-839A6EEC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7ADF1-92E8-4569-BE8F-17EF5F64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75129E-0E9D-4CC5-98BA-2700731D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796DFF-FF3E-4C51-898C-A7F43693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1EF570-1DCC-4FE8-BFE1-68C2EA70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BE035E-B47A-42EF-969D-D18BE8E1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ADA32F-15D4-42CA-8787-C78C20A3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323D44-DBD4-4611-A48C-B5505278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E40CEB-0309-4516-BBA1-CB324549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9B5D59-F38A-4007-B18B-55A2A2D4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142BD4-2AEA-443E-BA9F-A1A06BEB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EB8426-347A-4000-B205-79C32630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0BE7-A04E-4982-9483-91F747B4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E66618-3C51-4A3C-A02A-15441904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2BC3B8-C357-45B9-AD73-127E23AF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C225EC-0E8A-4652-815C-616F50F8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5D48C7-7BB9-496F-BE77-42295CE8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EA6FFC-DCB7-4AFC-8CE5-E13E6B58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251686-91B2-42B4-A93D-FEC7E4BE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6B262A-C6AF-4E7C-A5B4-95BD44E9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157AC0-C106-425E-AB4C-9FD6FA8B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52FC18-DB3F-47E3-8F88-747B29E8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1E5773-3609-47B8-B892-B1DA3AEE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4107-C516-49F4-A8C7-C03B3032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F2F7F2-E7E4-4825-80AF-7AE803D3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0191E0-C8C4-48D0-8B99-0EFA1CB5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821587-9382-470E-9A6F-7F2698C3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357954-CD6B-4E7F-9D90-16B8DCDA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B3082D-170B-4F77-90C3-0549C25D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35CA76-5818-4343-A812-CA093799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81A901-756D-4910-8C03-653CF602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1CF630-D438-49FE-B501-E79D5401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97ABFA-0CCB-4DFD-B796-36EE1260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CCD9A5-937B-40E2-A54A-AAFE0834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28DA-433D-4D6D-A2AF-9C95D548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A7112C-7122-42CF-BF18-DC4400D3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6F73A0-5690-402A-9ECB-249AC93B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1698B6-6318-44BB-92EF-0C58E326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54802D-73A9-4101-879F-75EC8BB6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A7CC74-5A08-4BF4-840B-F1A29A5A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3935F4-8C4C-4B52-90F4-CCFE85CB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3C126D-7957-463B-A36D-4DB728BF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2B6BAE-EB58-4487-8772-AE3F6B62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9CEE07-B1EF-46D0-8D8A-3364C45A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E5D0AE-221D-44F6-BE82-482DA840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CACFF-BBF8-49D6-B58C-2300092D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212FB8-B6F9-42B2-956C-BF7EC5B9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6A4949-DBB2-41C3-8600-53DAE43D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8C1D67-3C4B-4597-A33A-6AC2B8A1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DD5CD5-8B7B-4911-83ED-5626FCC6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332EBF-D8B4-4994-AB4F-8890C1AE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80B064-1E0F-4138-BE4A-ECCA7619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60DB33-CA21-4E69-8735-8FEAB75A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5E31CD-DC60-4753-9299-0820F79A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BE39F0-221B-4A10-8D69-C8D6173A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C7A91A-9F04-4C75-B14C-945155E5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69A-0A41-4774-91D6-20C9FDA6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5C2F2-9A59-4CF0-9802-22B6B2C1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29BEA7-71B0-46DD-8C12-C103B888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ACB6ED-C677-4B11-B0AC-56D7B761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7767E9-0BC0-4279-AD9B-C19CC1B1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C99155-317C-4A4A-8CB1-27F4EF3A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A87066-6142-4FBF-9B3E-8191F777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C15280-F7AD-4E64-A279-0B0D84F2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A3D6AE-F0F2-4D9E-94EB-4ADA3D61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C3165C-472C-423B-93BF-ADDBB546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CF9884-5AC0-48F7-B49E-C9C463B1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FAE8A3-8248-483E-9A01-AC54A27D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3607-5EA5-4AB3-B85B-10DC760D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F0C5FB-3F81-4384-988F-5A359C4B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031BBB-E57F-4595-906E-1F756037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A81F9F-438C-49EB-BAF3-C27A3890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319D5F-4AB9-4B6B-B0D1-F7FD95CC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D5705C-F4B9-43E5-8F3A-FEB41FCB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CEC193-A958-40D7-9261-DE1FDBAF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70BC7E-DC2F-48F0-BAE4-5F051411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4C21D6-358F-4CDB-B61B-5A36A23D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9FA1B8-E657-447D-94BF-3EABAD8E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FC2091-56E4-4C93-B67D-BA8C75BB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6596D-DB9E-4D50-8A20-1FAD9F3E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E69A35-1776-4B18-ABE5-FF2D5343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74D09D-B147-4609-8F91-2A128A98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1EB162-670C-494A-9B38-30AC0F3B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211B80-0F99-4128-9664-347F56D1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59E5E2-A83D-4FF8-B1A1-F17157A7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F23B2C-155B-463A-8E88-E85F146C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2451C4-B931-4E96-8DC7-B753C075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D456D8-DF97-4986-94DC-0BD1A367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B63A7D-A4C7-4FF6-802F-7365A6DC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51DE95-C68A-4C18-A391-F27CB37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C91E4-7584-4325-A619-D0493A54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5EFC09-67FD-44A4-B982-C76C426B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58FAD3-AC37-4AAD-8A32-E0B60C07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5866EA-611C-44FD-A0BA-1FE36972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7449F3-A13D-4617-B022-C6CDCEF3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632966-B9B6-47A3-80B4-3805143E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E15839-1674-40DA-A466-AC5DF593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113D00-8850-4BAA-8CA4-067A3C75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7372D21-E7AF-4BF6-BDC3-125810C3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121748-6705-476D-8FB6-6965D98F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E09D1E-54B8-4217-81EC-9C4533C0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EE4A7-3AC3-4A55-9643-0D316999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8B9272-B704-488B-8D48-E7772D7A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6F4185-9D33-427E-87DD-3A14B658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24F383-C006-4AE5-9118-0BC751D8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27B4C8-FDFA-4B0A-9DB2-35B56553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A35A72-4E42-4C31-B48B-6CFDD6B0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11260A-D906-41D7-82AB-A82F3814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88B435-A9F2-4213-ADF5-8B56ED57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541944B-73D7-44FF-8E53-F550AC34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4BA069-54BB-4FE6-9D1D-E994F841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D05BC3-ACC3-4A30-8F33-244C4A98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D4EB6-03A8-446E-92D8-D722B407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1CCA17-3922-4BFB-94F0-1D8C059D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FF5D6A0-191D-44A8-9DAF-D8986294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7F0CE83-C6A2-43D6-9F34-B9BE5808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A009BF-8E55-437F-974A-3175EC85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43AA11-FE00-4F9F-AA43-DF36BD5C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15F48C-D0F3-408B-A676-81DEB6D8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718B9D-AF13-460B-8986-A400E964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A35E6C-57E3-4EE5-8A66-DE39B0F9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519F22-4ED1-4DAD-8246-D62F934D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584122D-EAAD-4C39-8F44-97931BEA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3EFB8-F3DD-48B9-AEC2-39F8A487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19E4A8-6275-44B1-A0EC-6B52BC97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7DAF520-4EF4-4571-AFCB-EB21B8F5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B8EC978-9EDB-46DE-BD21-4B7F6AC9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0AFD2D1-A1E0-4F69-950A-616F5052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C3F175-2626-4DCE-BD86-EB9C7578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095360-EDF1-42D5-B8FC-F02D97A1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85D567-466C-4D55-A03C-9DECF784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CDBA57-07D9-4642-B336-02EDF99A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84A95E-46C2-4820-A396-F143C0FE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8B597-163B-4D04-8246-D5CE8A93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3E9B-DF86-433E-B036-C4AB0432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BB174-C746-4A7D-AD00-4A8106C5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E91-B759-4F9B-9587-8AFCD07F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8DF17-AE7C-4960-9119-A73AFEE1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2C457-86C2-4FA1-B51D-0D8FA5F4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22F9E-DD2A-4C45-8A03-C4C9C5FF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E4191-A02F-4FDE-BC4C-D2E80D1B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B8BAB-87AC-49B8-B288-2B7EA69C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1A847-FBCC-439D-9A99-A7A32E17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5238-005C-4149-8844-F3DBC872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1CC27-E65D-43A8-8C42-7EF484C7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6B8AE-5F10-41FD-9F82-B9C47E26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6DFCC-03F7-45BC-9DA1-F6171A14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4D6-5F24-41EF-BA18-07EEEF7A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1DD9D-ABCD-45FE-B6AA-2B522743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F4077-C6A9-492A-8FA9-BD585D76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AB2FD-7B66-4E6B-9331-D9B580CE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CE5AD-F88F-47E8-A831-8389427B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C392A-2891-4E67-8C80-6264729F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A41C8-0C19-49B4-9709-8E945804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0937E-E5E3-4209-A197-0199C35F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DD05F-497C-4D0F-A7D4-CDBE8BA0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B23E1-FFAB-41BD-B1C6-8DD8F6BC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3E22B-7CEF-439F-B546-7787C0F2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67C-F6DA-4CA3-A0E3-A8E8897A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F58B5-ED9D-460B-AAE7-D3A6EC70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85CC3-3033-4DD8-9199-23B2B15C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25118-ED43-4561-B39C-25A211BA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C67C2-4554-4014-B3F5-68C9730C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F0B90-5091-4A80-8B9B-87C785A4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E8124-40A4-481E-B648-0957D192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F5CE0-7A22-4DD1-9B87-B717387E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159EE-5457-478A-AA1F-47A82B80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C3722-A523-4F35-87CB-81AA3D24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3C53B-7282-4933-8717-AD2E1408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CAD-55F0-4BE6-99D1-25A6562C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A3160-44CC-44B8-B14A-6C0903C4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DE917-274A-42B0-8A7A-395B6EF4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FFB24-673D-434B-89EE-FAE7CAE3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CE4C2-1B9A-4C5D-8F53-356F6C19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D00F0-45FA-473A-80AC-CCF0F04F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046AE-5199-41EB-A3B4-2DD7D12E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F6E8A-4316-420A-841B-1D9400D4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11F00-86AC-40E9-B163-C4FED7B1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1F03F-7A38-41DE-8496-9F813808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ED67E-3A10-4FF3-A924-7E2DB013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791-C246-449E-BB45-DBD4493D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EEE61-DB52-40A7-AC94-B7E9EF13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37398-3CA3-4BDC-9E19-4B4DA00F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CD1A3-C696-4E31-A50B-B232A8D9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38A41-3EE9-4EFA-9977-E15A564F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03CC8-29A5-4542-ABEF-2AE3F699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B117A-07B1-439B-9496-63B7107D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3DAC3-04BD-4D91-9207-4DB18EB2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021DB-DA1D-47D4-A69F-AAE260C5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E3388-090C-4185-9B1B-2630E0DD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82629-DC2A-4C66-B762-D6D75D9C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9434-E0CB-4C21-A1C9-96DBA5022B8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C955-2688-46FF-BA7F-4DD8A88892E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C009-FA31-4983-A302-5A4EF0E200B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0380-34AA-4475-A15F-14319BA92A8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78BE-DD2B-4B17-821E-C0A909D5052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FB96-EAEC-4FB0-AF0B-A41B919EBB0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3879-39D5-48D9-BE26-D16D5BAA0D4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8194-4A54-4DA5-A9C3-AE0D36D269F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5133-B8D5-4F1F-B8C2-CEB7A24BB76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1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2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28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93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20EE-323E-4E58-A087-1D8D6E875CD0}" type="slidenum">
              <a:rPr b="0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0556-5636-4EB9-B6B4-F287E028760F}" type="slidenum">
              <a:rPr b="0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06FB-BF93-45AD-B6CA-77C80EC3F90C}" type="slidenum">
              <a:rPr b="0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9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0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0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Freeform 45"/>
                <p:cNvSpPr/>
                <p:nvPr/>
              </p:nvSpPr>
              <p:spPr>
                <a:xfrm rot="18427200">
                  <a:off x="8056440" y="488880"/>
                  <a:ext cx="4312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Freeform 46"/>
                <p:cNvSpPr/>
                <p:nvPr/>
              </p:nvSpPr>
              <p:spPr>
                <a:xfrm rot="18427200">
                  <a:off x="7753320" y="251640"/>
                  <a:ext cx="80964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48"/>
                <p:cNvSpPr/>
                <p:nvPr/>
              </p:nvSpPr>
              <p:spPr>
                <a:xfrm rot="18427200">
                  <a:off x="8453160" y="139212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Freeform 49"/>
                <p:cNvSpPr/>
                <p:nvPr/>
              </p:nvSpPr>
              <p:spPr>
                <a:xfrm rot="18427200">
                  <a:off x="8338320" y="1246680"/>
                  <a:ext cx="2901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51"/>
                <p:cNvSpPr/>
                <p:nvPr/>
              </p:nvSpPr>
              <p:spPr>
                <a:xfrm rot="18427200">
                  <a:off x="7896960" y="181440"/>
                  <a:ext cx="2869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B28E-421F-4D6F-9ECC-82D774E78AE0}" type="slidenum">
              <a:rPr b="0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F147-D19C-453F-B434-541C9141E172}" type="slidenum">
              <a:rPr b="0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06A9-129F-45B9-BBC5-4E3129E762EE}" type="slidenum">
              <a:rPr b="0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929D-5DE0-499B-AD6D-FADCD8802405}" type="slidenum">
              <a:rPr b="0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D907-AF1C-4CED-AFED-216D8096BED8}" type="slidenum">
              <a:rPr b="0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7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7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7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7489-DBEF-40F4-B7F3-3E5A36B5718F}" type="slidenum">
              <a:rPr b="0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7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7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7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AF5A-227F-4F78-ABA6-E55D0F37203A}" type="slidenum">
              <a:rPr b="0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7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8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59E7-34CB-455A-8B3E-4E1748FD8EAD}" type="slidenum">
              <a:rPr b="0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8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3F06-262E-4B18-A0FE-201ED8A00038}" type="slidenum">
              <a:rPr b="0" lang="ru-RU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0" name="Group 2"/>
          <p:cNvGrpSpPr/>
          <p:nvPr/>
        </p:nvGrpSpPr>
        <p:grpSpPr>
          <a:xfrm>
            <a:off x="2010600" y="245520"/>
            <a:ext cx="6896520" cy="5451480"/>
            <a:chOff x="2010600" y="245520"/>
            <a:chExt cx="6896520" cy="5451480"/>
          </a:xfrm>
        </p:grpSpPr>
        <p:grpSp>
          <p:nvGrpSpPr>
            <p:cNvPr id="1391" name="Group 3"/>
            <p:cNvGrpSpPr/>
            <p:nvPr/>
          </p:nvGrpSpPr>
          <p:grpSpPr>
            <a:xfrm>
              <a:off x="3484080" y="999720"/>
              <a:ext cx="945720" cy="709200"/>
              <a:chOff x="3484080" y="999720"/>
              <a:chExt cx="945720" cy="709200"/>
            </a:xfrm>
          </p:grpSpPr>
          <p:sp>
            <p:nvSpPr>
              <p:cNvPr id="1392" name="Oval 4"/>
              <p:cNvSpPr/>
              <p:nvPr/>
            </p:nvSpPr>
            <p:spPr>
              <a:xfrm>
                <a:off x="3484080" y="999720"/>
                <a:ext cx="94572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Oval 5"/>
              <p:cNvSpPr/>
              <p:nvPr/>
            </p:nvSpPr>
            <p:spPr>
              <a:xfrm>
                <a:off x="3823920" y="1311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4" name="Group 6"/>
            <p:cNvGrpSpPr/>
            <p:nvPr/>
          </p:nvGrpSpPr>
          <p:grpSpPr>
            <a:xfrm>
              <a:off x="2010600" y="245520"/>
              <a:ext cx="6896520" cy="5451480"/>
              <a:chOff x="2010600" y="245520"/>
              <a:chExt cx="6896520" cy="5451480"/>
            </a:xfrm>
          </p:grpSpPr>
          <p:grpSp>
            <p:nvGrpSpPr>
              <p:cNvPr id="1395" name="Group 7"/>
              <p:cNvGrpSpPr/>
              <p:nvPr/>
            </p:nvGrpSpPr>
            <p:grpSpPr>
              <a:xfrm>
                <a:off x="2010600" y="245520"/>
                <a:ext cx="6891480" cy="5451480"/>
                <a:chOff x="2010600" y="245520"/>
                <a:chExt cx="6891480" cy="5451480"/>
              </a:xfrm>
            </p:grpSpPr>
            <p:grpSp>
              <p:nvGrpSpPr>
                <p:cNvPr id="1396" name="Group 8"/>
                <p:cNvGrpSpPr/>
                <p:nvPr/>
              </p:nvGrpSpPr>
              <p:grpSpPr>
                <a:xfrm>
                  <a:off x="3735720" y="1263600"/>
                  <a:ext cx="3599280" cy="2661480"/>
                  <a:chOff x="3735720" y="1263600"/>
                  <a:chExt cx="3599280" cy="2661480"/>
                </a:xfrm>
              </p:grpSpPr>
              <p:sp>
                <p:nvSpPr>
                  <p:cNvPr id="1397" name="Oval 9"/>
                  <p:cNvSpPr/>
                  <p:nvPr/>
                </p:nvSpPr>
                <p:spPr>
                  <a:xfrm>
                    <a:off x="3735720" y="1263600"/>
                    <a:ext cx="3599280" cy="266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Oval 10"/>
                  <p:cNvSpPr/>
                  <p:nvPr/>
                </p:nvSpPr>
                <p:spPr>
                  <a:xfrm>
                    <a:off x="5109480" y="2232720"/>
                    <a:ext cx="712440" cy="50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9" name="Group 11"/>
                <p:cNvGrpSpPr/>
                <p:nvPr/>
              </p:nvGrpSpPr>
              <p:grpSpPr>
                <a:xfrm>
                  <a:off x="2010600" y="245520"/>
                  <a:ext cx="6891480" cy="5451480"/>
                  <a:chOff x="2010600" y="245520"/>
                  <a:chExt cx="6891480" cy="5451480"/>
                </a:xfrm>
              </p:grpSpPr>
              <p:grpSp>
                <p:nvGrpSpPr>
                  <p:cNvPr id="1400" name="Group 12"/>
                  <p:cNvGrpSpPr/>
                  <p:nvPr/>
                </p:nvGrpSpPr>
                <p:grpSpPr>
                  <a:xfrm>
                    <a:off x="5761440" y="2327760"/>
                    <a:ext cx="2558880" cy="2733120"/>
                    <a:chOff x="5761440" y="2327760"/>
                    <a:chExt cx="2558880" cy="2733120"/>
                  </a:xfrm>
                </p:grpSpPr>
                <p:sp>
                  <p:nvSpPr>
                    <p:cNvPr id="1401" name="Freeform 13"/>
                    <p:cNvSpPr/>
                    <p:nvPr/>
                  </p:nvSpPr>
                  <p:spPr>
                    <a:xfrm rot="2711400">
                      <a:off x="5584320" y="3024360"/>
                      <a:ext cx="21247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2" name="Freeform 14"/>
                    <p:cNvSpPr/>
                    <p:nvPr/>
                  </p:nvSpPr>
                  <p:spPr>
                    <a:xfrm rot="2711400">
                      <a:off x="7138080" y="4144320"/>
                      <a:ext cx="113580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3" name="Group 15"/>
                  <p:cNvGrpSpPr/>
                  <p:nvPr/>
                </p:nvGrpSpPr>
                <p:grpSpPr>
                  <a:xfrm>
                    <a:off x="5787000" y="2144880"/>
                    <a:ext cx="3040560" cy="2529720"/>
                    <a:chOff x="5787000" y="2144880"/>
                    <a:chExt cx="3040560" cy="2529720"/>
                  </a:xfrm>
                </p:grpSpPr>
                <p:sp>
                  <p:nvSpPr>
                    <p:cNvPr id="1404" name="Freeform 16"/>
                    <p:cNvSpPr/>
                    <p:nvPr/>
                  </p:nvSpPr>
                  <p:spPr>
                    <a:xfrm rot="2103600">
                      <a:off x="5707080" y="274788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5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6" name="Group 18"/>
                  <p:cNvGrpSpPr/>
                  <p:nvPr/>
                </p:nvGrpSpPr>
                <p:grpSpPr>
                  <a:xfrm>
                    <a:off x="5774760" y="2057400"/>
                    <a:ext cx="3098160" cy="1998000"/>
                    <a:chOff x="5774760" y="2057400"/>
                    <a:chExt cx="3098160" cy="1998000"/>
                  </a:xfrm>
                </p:grpSpPr>
                <p:sp>
                  <p:nvSpPr>
                    <p:cNvPr id="1407" name="Freeform 19"/>
                    <p:cNvSpPr/>
                    <p:nvPr/>
                  </p:nvSpPr>
                  <p:spPr>
                    <a:xfrm rot="1582800">
                      <a:off x="5746680" y="2513160"/>
                      <a:ext cx="2140560" cy="37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8" name="Freeform 20"/>
                    <p:cNvSpPr/>
                    <p:nvPr/>
                  </p:nvSpPr>
                  <p:spPr>
                    <a:xfrm rot="1582800">
                      <a:off x="7652520" y="3242520"/>
                      <a:ext cx="1149120" cy="588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9" name="Group 21"/>
                  <p:cNvGrpSpPr/>
                  <p:nvPr/>
                </p:nvGrpSpPr>
                <p:grpSpPr>
                  <a:xfrm>
                    <a:off x="5767920" y="1968120"/>
                    <a:ext cx="3134160" cy="1609920"/>
                    <a:chOff x="5767920" y="1968120"/>
                    <a:chExt cx="3134160" cy="1609920"/>
                  </a:xfrm>
                </p:grpSpPr>
                <p:sp>
                  <p:nvSpPr>
                    <p:cNvPr id="1410" name="Freeform 22"/>
                    <p:cNvSpPr/>
                    <p:nvPr/>
                  </p:nvSpPr>
                  <p:spPr>
                    <a:xfrm rot="1080000">
                      <a:off x="5780880" y="2277360"/>
                      <a:ext cx="206748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1" name="Freeform 23"/>
                    <p:cNvSpPr/>
                    <p:nvPr/>
                  </p:nvSpPr>
                  <p:spPr>
                    <a:xfrm rot="1080000">
                      <a:off x="7718040" y="2773080"/>
                      <a:ext cx="1110600" cy="649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2" name="Group 24"/>
                  <p:cNvGrpSpPr/>
                  <p:nvPr/>
                </p:nvGrpSpPr>
                <p:grpSpPr>
                  <a:xfrm>
                    <a:off x="5805720" y="1876680"/>
                    <a:ext cx="2939400" cy="999360"/>
                    <a:chOff x="5805720" y="1876680"/>
                    <a:chExt cx="2939400" cy="999360"/>
                  </a:xfrm>
                </p:grpSpPr>
                <p:sp>
                  <p:nvSpPr>
                    <p:cNvPr id="1413" name="Freeform 25"/>
                    <p:cNvSpPr/>
                    <p:nvPr/>
                  </p:nvSpPr>
                  <p:spPr>
                    <a:xfrm rot="463200">
                      <a:off x="5822640" y="2002680"/>
                      <a:ext cx="1903680" cy="38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4" name="Freeform 26"/>
                    <p:cNvSpPr/>
                    <p:nvPr/>
                  </p:nvSpPr>
                  <p:spPr>
                    <a:xfrm rot="463200">
                      <a:off x="7686000" y="2205360"/>
                      <a:ext cx="1023120" cy="604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5" name="Group 27"/>
                  <p:cNvGrpSpPr/>
                  <p:nvPr/>
                </p:nvGrpSpPr>
                <p:grpSpPr>
                  <a:xfrm>
                    <a:off x="5851080" y="1808280"/>
                    <a:ext cx="2658960" cy="448200"/>
                    <a:chOff x="5851080" y="1808280"/>
                    <a:chExt cx="2658960" cy="448200"/>
                  </a:xfrm>
                </p:grpSpPr>
                <p:sp>
                  <p:nvSpPr>
                    <p:cNvPr id="1416" name="Freeform 28"/>
                    <p:cNvSpPr/>
                    <p:nvPr/>
                  </p:nvSpPr>
                  <p:spPr>
                    <a:xfrm rot="21515400">
                      <a:off x="5853960" y="1845360"/>
                      <a:ext cx="1730880" cy="27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Freeform 29"/>
                    <p:cNvSpPr/>
                    <p:nvPr/>
                  </p:nvSpPr>
                  <p:spPr>
                    <a:xfrm rot="21515400">
                      <a:off x="7575480" y="1819800"/>
                      <a:ext cx="92952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8" name="Group 30"/>
                  <p:cNvGrpSpPr/>
                  <p:nvPr/>
                </p:nvGrpSpPr>
                <p:grpSpPr>
                  <a:xfrm>
                    <a:off x="5788080" y="1299600"/>
                    <a:ext cx="2364840" cy="790920"/>
                    <a:chOff x="5788080" y="1299600"/>
                    <a:chExt cx="2364840" cy="790920"/>
                  </a:xfrm>
                </p:grpSpPr>
                <p:sp>
                  <p:nvSpPr>
                    <p:cNvPr id="1419" name="Freeform 31"/>
                    <p:cNvSpPr/>
                    <p:nvPr/>
                  </p:nvSpPr>
                  <p:spPr>
                    <a:xfrm rot="20797200">
                      <a:off x="5798160" y="1650240"/>
                      <a:ext cx="1520280" cy="267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0" name="Freeform 32"/>
                    <p:cNvSpPr/>
                    <p:nvPr/>
                  </p:nvSpPr>
                  <p:spPr>
                    <a:xfrm rot="20797200">
                      <a:off x="7299000" y="1388160"/>
                      <a:ext cx="81648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1" name="Group 33"/>
                  <p:cNvGrpSpPr/>
                  <p:nvPr/>
                </p:nvGrpSpPr>
                <p:grpSpPr>
                  <a:xfrm>
                    <a:off x="2644560" y="2480400"/>
                    <a:ext cx="2558880" cy="2737440"/>
                    <a:chOff x="2644560" y="2480400"/>
                    <a:chExt cx="2558880" cy="2737440"/>
                  </a:xfrm>
                </p:grpSpPr>
                <p:sp>
                  <p:nvSpPr>
                    <p:cNvPr id="1422" name="Freeform 34"/>
                    <p:cNvSpPr/>
                    <p:nvPr/>
                  </p:nvSpPr>
                  <p:spPr>
                    <a:xfrm flipH="1" rot="18888600">
                      <a:off x="3250800" y="3178800"/>
                      <a:ext cx="21301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3" name="Freeform 35"/>
                    <p:cNvSpPr/>
                    <p:nvPr/>
                  </p:nvSpPr>
                  <p:spPr>
                    <a:xfrm flipH="1" rot="18888600">
                      <a:off x="2688840" y="4297320"/>
                      <a:ext cx="11458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4" name="Group 36"/>
                  <p:cNvGrpSpPr/>
                  <p:nvPr/>
                </p:nvGrpSpPr>
                <p:grpSpPr>
                  <a:xfrm>
                    <a:off x="2082960" y="2365200"/>
                    <a:ext cx="3041280" cy="2537640"/>
                    <a:chOff x="2082960" y="2365200"/>
                    <a:chExt cx="3041280" cy="2537640"/>
                  </a:xfrm>
                </p:grpSpPr>
                <p:sp>
                  <p:nvSpPr>
                    <p:cNvPr id="1425" name="Freeform 37"/>
                    <p:cNvSpPr/>
                    <p:nvPr/>
                  </p:nvSpPr>
                  <p:spPr>
                    <a:xfrm flipH="1" rot="19496400">
                      <a:off x="2969280" y="2967840"/>
                      <a:ext cx="223416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6" name="Freeform 38"/>
                    <p:cNvSpPr/>
                    <p:nvPr/>
                  </p:nvSpPr>
                  <p:spPr>
                    <a:xfrm flipH="1" rot="19496400">
                      <a:off x="2168280" y="3942360"/>
                      <a:ext cx="1199880" cy="67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7" name="Group 39"/>
                  <p:cNvGrpSpPr/>
                  <p:nvPr/>
                </p:nvGrpSpPr>
                <p:grpSpPr>
                  <a:xfrm>
                    <a:off x="2039400" y="2277360"/>
                    <a:ext cx="3098160" cy="1997280"/>
                    <a:chOff x="2039400" y="2277360"/>
                    <a:chExt cx="3098160" cy="1997280"/>
                  </a:xfrm>
                </p:grpSpPr>
                <p:sp>
                  <p:nvSpPr>
                    <p:cNvPr id="1428" name="Freeform 40"/>
                    <p:cNvSpPr/>
                    <p:nvPr/>
                  </p:nvSpPr>
                  <p:spPr>
                    <a:xfrm flipH="1" rot="20017200">
                      <a:off x="3024720" y="2733480"/>
                      <a:ext cx="214092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9" name="Freeform 41"/>
                    <p:cNvSpPr/>
                    <p:nvPr/>
                  </p:nvSpPr>
                  <p:spPr>
                    <a:xfrm flipH="1" rot="20017200">
                      <a:off x="2111040" y="3456720"/>
                      <a:ext cx="1149120" cy="59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0" name="Group 42"/>
                  <p:cNvGrpSpPr/>
                  <p:nvPr/>
                </p:nvGrpSpPr>
                <p:grpSpPr>
                  <a:xfrm>
                    <a:off x="2010600" y="2181960"/>
                    <a:ext cx="3134880" cy="1616760"/>
                    <a:chOff x="2010600" y="2181960"/>
                    <a:chExt cx="3134880" cy="1616760"/>
                  </a:xfrm>
                </p:grpSpPr>
                <p:sp>
                  <p:nvSpPr>
                    <p:cNvPr id="1431" name="Freeform 43"/>
                    <p:cNvSpPr/>
                    <p:nvPr/>
                  </p:nvSpPr>
                  <p:spPr>
                    <a:xfrm flipH="1" rot="20520000">
                      <a:off x="3063960" y="2491200"/>
                      <a:ext cx="206784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2" name="Freeform 44"/>
                    <p:cNvSpPr/>
                    <p:nvPr/>
                  </p:nvSpPr>
                  <p:spPr>
                    <a:xfrm flipH="1" rot="20520000">
                      <a:off x="2084400" y="2987640"/>
                      <a:ext cx="1110600" cy="655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3" name="Group 45"/>
                  <p:cNvGrpSpPr/>
                  <p:nvPr/>
                </p:nvGrpSpPr>
                <p:grpSpPr>
                  <a:xfrm>
                    <a:off x="2167560" y="2093040"/>
                    <a:ext cx="2937240" cy="1005120"/>
                    <a:chOff x="2167560" y="2093040"/>
                    <a:chExt cx="2937240" cy="1005120"/>
                  </a:xfrm>
                </p:grpSpPr>
                <p:sp>
                  <p:nvSpPr>
                    <p:cNvPr id="1434" name="Freeform 46"/>
                    <p:cNvSpPr/>
                    <p:nvPr/>
                  </p:nvSpPr>
                  <p:spPr>
                    <a:xfrm flipH="1" rot="21136800">
                      <a:off x="3183840" y="221904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5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6" name="Group 48"/>
                  <p:cNvGrpSpPr/>
                  <p:nvPr/>
                </p:nvGrpSpPr>
                <p:grpSpPr>
                  <a:xfrm>
                    <a:off x="2403360" y="2026080"/>
                    <a:ext cx="2658600" cy="451800"/>
                    <a:chOff x="2403360" y="2026080"/>
                    <a:chExt cx="2658600" cy="451800"/>
                  </a:xfrm>
                </p:grpSpPr>
                <p:sp>
                  <p:nvSpPr>
                    <p:cNvPr id="1437" name="Freeform 49"/>
                    <p:cNvSpPr/>
                    <p:nvPr/>
                  </p:nvSpPr>
                  <p:spPr>
                    <a:xfrm flipH="1" rot="84600">
                      <a:off x="3327480" y="2063160"/>
                      <a:ext cx="1730880" cy="27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8" name="Freeform 50"/>
                    <p:cNvSpPr/>
                    <p:nvPr/>
                  </p:nvSpPr>
                  <p:spPr>
                    <a:xfrm flipH="1" rot="84600">
                      <a:off x="2408040" y="2037240"/>
                      <a:ext cx="92952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9" name="Group 51"/>
                  <p:cNvGrpSpPr/>
                  <p:nvPr/>
                </p:nvGrpSpPr>
                <p:grpSpPr>
                  <a:xfrm>
                    <a:off x="2761200" y="1514520"/>
                    <a:ext cx="2363760" cy="792360"/>
                    <a:chOff x="2761200" y="1514520"/>
                    <a:chExt cx="2363760" cy="792360"/>
                  </a:xfrm>
                </p:grpSpPr>
                <p:sp>
                  <p:nvSpPr>
                    <p:cNvPr id="1440" name="Freeform 52"/>
                    <p:cNvSpPr/>
                    <p:nvPr/>
                  </p:nvSpPr>
                  <p:spPr>
                    <a:xfrm flipH="1" rot="802800">
                      <a:off x="3594240" y="1866600"/>
                      <a:ext cx="1520280" cy="267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1" name="Freeform 53"/>
                    <p:cNvSpPr/>
                    <p:nvPr/>
                  </p:nvSpPr>
                  <p:spPr>
                    <a:xfrm flipH="1" rot="802800">
                      <a:off x="2798280" y="1603080"/>
                      <a:ext cx="816120" cy="420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42" name="Group 54"/>
                  <p:cNvGrpSpPr/>
                  <p:nvPr/>
                </p:nvGrpSpPr>
                <p:grpSpPr>
                  <a:xfrm>
                    <a:off x="2887920" y="1232280"/>
                    <a:ext cx="2323080" cy="1084320"/>
                    <a:chOff x="2887920" y="1232280"/>
                    <a:chExt cx="2323080" cy="1084320"/>
                  </a:xfrm>
                </p:grpSpPr>
                <p:sp>
                  <p:nvSpPr>
                    <p:cNvPr id="1443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4" name="Freeform 56"/>
                    <p:cNvSpPr/>
                    <p:nvPr/>
                  </p:nvSpPr>
                  <p:spPr>
                    <a:xfrm flipH="1" rot="1278000">
                      <a:off x="2935080" y="1366200"/>
                      <a:ext cx="8161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45" name="Group 57"/>
                  <p:cNvGrpSpPr/>
                  <p:nvPr/>
                </p:nvGrpSpPr>
                <p:grpSpPr>
                  <a:xfrm>
                    <a:off x="3160800" y="825840"/>
                    <a:ext cx="2170800" cy="1507320"/>
                    <a:chOff x="3160800" y="825840"/>
                    <a:chExt cx="2170800" cy="1507320"/>
                  </a:xfrm>
                </p:grpSpPr>
                <p:sp>
                  <p:nvSpPr>
                    <p:cNvPr id="1446" name="Freeform 58"/>
                    <p:cNvSpPr/>
                    <p:nvPr/>
                  </p:nvSpPr>
                  <p:spPr>
                    <a:xfrm flipH="1" rot="2028600">
                      <a:off x="3866040" y="166752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7" name="Freeform 59"/>
                    <p:cNvSpPr/>
                    <p:nvPr/>
                  </p:nvSpPr>
                  <p:spPr>
                    <a:xfrm flipH="1" rot="2028600">
                      <a:off x="3206880" y="101772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48" name="Group 60"/>
                  <p:cNvGrpSpPr/>
                  <p:nvPr/>
                </p:nvGrpSpPr>
                <p:grpSpPr>
                  <a:xfrm>
                    <a:off x="3437280" y="434160"/>
                    <a:ext cx="1987200" cy="1832040"/>
                    <a:chOff x="3437280" y="434160"/>
                    <a:chExt cx="1987200" cy="1832040"/>
                  </a:xfrm>
                </p:grpSpPr>
                <p:sp>
                  <p:nvSpPr>
                    <p:cNvPr id="1449" name="Freeform 61"/>
                    <p:cNvSpPr/>
                    <p:nvPr/>
                  </p:nvSpPr>
                  <p:spPr>
                    <a:xfrm flipH="1" rot="2664600">
                      <a:off x="4009320" y="1499400"/>
                      <a:ext cx="154260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0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8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1" name="Group 63"/>
                  <p:cNvGrpSpPr/>
                  <p:nvPr/>
                </p:nvGrpSpPr>
                <p:grpSpPr>
                  <a:xfrm>
                    <a:off x="4032000" y="316800"/>
                    <a:ext cx="1459080" cy="1909080"/>
                    <a:chOff x="4032000" y="316800"/>
                    <a:chExt cx="1459080" cy="1909080"/>
                  </a:xfrm>
                </p:grpSpPr>
                <p:sp>
                  <p:nvSpPr>
                    <p:cNvPr id="1452" name="Freeform 64"/>
                    <p:cNvSpPr/>
                    <p:nvPr/>
                  </p:nvSpPr>
                  <p:spPr>
                    <a:xfrm flipH="1" rot="3474000">
                      <a:off x="4338720" y="14475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3" name="Freeform 65"/>
                    <p:cNvSpPr/>
                    <p:nvPr/>
                  </p:nvSpPr>
                  <p:spPr>
                    <a:xfrm flipH="1" rot="3474000">
                      <a:off x="4037400" y="527760"/>
                      <a:ext cx="7282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4" name="Group 66"/>
                  <p:cNvGrpSpPr/>
                  <p:nvPr/>
                </p:nvGrpSpPr>
                <p:grpSpPr>
                  <a:xfrm>
                    <a:off x="4446360" y="245520"/>
                    <a:ext cx="1125720" cy="1951560"/>
                    <a:chOff x="4446360" y="245520"/>
                    <a:chExt cx="1125720" cy="1951560"/>
                  </a:xfrm>
                </p:grpSpPr>
                <p:sp>
                  <p:nvSpPr>
                    <p:cNvPr id="1455" name="Freeform 67"/>
                    <p:cNvSpPr/>
                    <p:nvPr/>
                  </p:nvSpPr>
                  <p:spPr>
                    <a:xfrm flipH="1" rot="4126800">
                      <a:off x="4557240" y="140616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6" name="Freeform 68"/>
                    <p:cNvSpPr/>
                    <p:nvPr/>
                  </p:nvSpPr>
                  <p:spPr>
                    <a:xfrm flipH="1" rot="4126800">
                      <a:off x="4415760" y="439920"/>
                      <a:ext cx="7009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7" name="Group 69"/>
                  <p:cNvGrpSpPr/>
                  <p:nvPr/>
                </p:nvGrpSpPr>
                <p:grpSpPr>
                  <a:xfrm>
                    <a:off x="5661720" y="943560"/>
                    <a:ext cx="2319120" cy="1118520"/>
                    <a:chOff x="5661720" y="943560"/>
                    <a:chExt cx="2319120" cy="1118520"/>
                  </a:xfrm>
                </p:grpSpPr>
                <p:sp>
                  <p:nvSpPr>
                    <p:cNvPr id="1458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9" name="Freeform 71"/>
                    <p:cNvSpPr/>
                    <p:nvPr/>
                  </p:nvSpPr>
                  <p:spPr>
                    <a:xfrm rot="20274000">
                      <a:off x="7114320" y="1081440"/>
                      <a:ext cx="817560" cy="420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60" name="Group 72"/>
                  <p:cNvGrpSpPr/>
                  <p:nvPr/>
                </p:nvGrpSpPr>
                <p:grpSpPr>
                  <a:xfrm>
                    <a:off x="5528880" y="615960"/>
                    <a:ext cx="2202480" cy="1461240"/>
                    <a:chOff x="5528880" y="615960"/>
                    <a:chExt cx="2202480" cy="1461240"/>
                  </a:xfrm>
                </p:grpSpPr>
                <p:sp>
                  <p:nvSpPr>
                    <p:cNvPr id="1461" name="Freeform 73"/>
                    <p:cNvSpPr/>
                    <p:nvPr/>
                  </p:nvSpPr>
                  <p:spPr>
                    <a:xfrm rot="19678800">
                      <a:off x="5484240" y="1426320"/>
                      <a:ext cx="1519920" cy="268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2" name="Freeform 74"/>
                    <p:cNvSpPr/>
                    <p:nvPr/>
                  </p:nvSpPr>
                  <p:spPr>
                    <a:xfrm rot="19678800">
                      <a:off x="6864840" y="80064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63" name="Freeform 75"/>
                  <p:cNvSpPr/>
                  <p:nvPr/>
                </p:nvSpPr>
                <p:spPr>
                  <a:xfrm flipH="1" rot="4578600">
                    <a:off x="4762800" y="1463400"/>
                    <a:ext cx="127080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Freeform 76"/>
                  <p:cNvSpPr/>
                  <p:nvPr/>
                </p:nvSpPr>
                <p:spPr>
                  <a:xfrm flipH="1" rot="4578600">
                    <a:off x="4796280" y="531360"/>
                    <a:ext cx="6775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65" name="Group 77"/>
                  <p:cNvGrpSpPr/>
                  <p:nvPr/>
                </p:nvGrpSpPr>
                <p:grpSpPr>
                  <a:xfrm>
                    <a:off x="5359680" y="269640"/>
                    <a:ext cx="1190520" cy="1886040"/>
                    <a:chOff x="5359680" y="269640"/>
                    <a:chExt cx="1190520" cy="1886040"/>
                  </a:xfrm>
                </p:grpSpPr>
                <p:sp>
                  <p:nvSpPr>
                    <p:cNvPr id="1466" name="Freeform 78"/>
                    <p:cNvSpPr/>
                    <p:nvPr/>
                  </p:nvSpPr>
                  <p:spPr>
                    <a:xfrm rot="17742000">
                      <a:off x="5091120" y="1403280"/>
                      <a:ext cx="130860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7" name="Freeform 79"/>
                    <p:cNvSpPr/>
                    <p:nvPr/>
                  </p:nvSpPr>
                  <p:spPr>
                    <a:xfrm rot="17742000">
                      <a:off x="5885640" y="486360"/>
                      <a:ext cx="704520" cy="353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68" name="Group 80"/>
                  <p:cNvGrpSpPr/>
                  <p:nvPr/>
                </p:nvGrpSpPr>
                <p:grpSpPr>
                  <a:xfrm>
                    <a:off x="5350680" y="374040"/>
                    <a:ext cx="1887840" cy="1793880"/>
                    <a:chOff x="5350680" y="374040"/>
                    <a:chExt cx="1887840" cy="1793880"/>
                  </a:xfrm>
                </p:grpSpPr>
                <p:sp>
                  <p:nvSpPr>
                    <p:cNvPr id="1469" name="Freeform 81"/>
                    <p:cNvSpPr/>
                    <p:nvPr/>
                  </p:nvSpPr>
                  <p:spPr>
                    <a:xfrm rot="18822600">
                      <a:off x="5250240" y="1371240"/>
                      <a:ext cx="142632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0" name="Freeform 82"/>
                    <p:cNvSpPr/>
                    <p:nvPr/>
                  </p:nvSpPr>
                  <p:spPr>
                    <a:xfrm rot="18822600">
                      <a:off x="6402960" y="570240"/>
                      <a:ext cx="766080" cy="519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1" name="Group 83"/>
                  <p:cNvGrpSpPr/>
                  <p:nvPr/>
                </p:nvGrpSpPr>
                <p:grpSpPr>
                  <a:xfrm>
                    <a:off x="5459040" y="288000"/>
                    <a:ext cx="425520" cy="1792080"/>
                    <a:chOff x="5459040" y="288000"/>
                    <a:chExt cx="425520" cy="1792080"/>
                  </a:xfrm>
                </p:grpSpPr>
                <p:sp>
                  <p:nvSpPr>
                    <p:cNvPr id="1472" name="Freeform 84"/>
                    <p:cNvSpPr/>
                    <p:nvPr/>
                  </p:nvSpPr>
                  <p:spPr>
                    <a:xfrm rot="16696200">
                      <a:off x="5006520" y="1436040"/>
                      <a:ext cx="117900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3" name="Freeform 85"/>
                    <p:cNvSpPr/>
                    <p:nvPr/>
                  </p:nvSpPr>
                  <p:spPr>
                    <a:xfrm rot="16696200">
                      <a:off x="5440680" y="529200"/>
                      <a:ext cx="63180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4" name="Group 86"/>
                  <p:cNvGrpSpPr/>
                  <p:nvPr/>
                </p:nvGrpSpPr>
                <p:grpSpPr>
                  <a:xfrm>
                    <a:off x="3067920" y="2527560"/>
                    <a:ext cx="2191680" cy="3003120"/>
                    <a:chOff x="3067920" y="2527560"/>
                    <a:chExt cx="2191680" cy="3003120"/>
                  </a:xfrm>
                </p:grpSpPr>
                <p:sp>
                  <p:nvSpPr>
                    <p:cNvPr id="1475" name="Freeform 87"/>
                    <p:cNvSpPr/>
                    <p:nvPr/>
                  </p:nvSpPr>
                  <p:spPr>
                    <a:xfrm flipH="1" rot="18336000">
                      <a:off x="3413880" y="3315600"/>
                      <a:ext cx="21358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6" name="Freeform 88"/>
                    <p:cNvSpPr/>
                    <p:nvPr/>
                  </p:nvSpPr>
                  <p:spPr>
                    <a:xfrm flipH="1" rot="18336000">
                      <a:off x="3074760" y="458928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7" name="Group 89"/>
                  <p:cNvGrpSpPr/>
                  <p:nvPr/>
                </p:nvGrpSpPr>
                <p:grpSpPr>
                  <a:xfrm>
                    <a:off x="3787200" y="2633760"/>
                    <a:ext cx="1486080" cy="3022920"/>
                    <a:chOff x="3787200" y="2633760"/>
                    <a:chExt cx="1486080" cy="3022920"/>
                  </a:xfrm>
                </p:grpSpPr>
                <p:sp>
                  <p:nvSpPr>
                    <p:cNvPr id="1478" name="Freeform 90"/>
                    <p:cNvSpPr/>
                    <p:nvPr/>
                  </p:nvSpPr>
                  <p:spPr>
                    <a:xfrm flipH="1" rot="17543400">
                      <a:off x="3734640" y="3427560"/>
                      <a:ext cx="1972800" cy="381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Freeform 91"/>
                    <p:cNvSpPr/>
                    <p:nvPr/>
                  </p:nvSpPr>
                  <p:spPr>
                    <a:xfrm flipH="1" rot="17543400">
                      <a:off x="3736440" y="4751280"/>
                      <a:ext cx="1060200" cy="60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0" name="Group 92"/>
                  <p:cNvGrpSpPr/>
                  <p:nvPr/>
                </p:nvGrpSpPr>
                <p:grpSpPr>
                  <a:xfrm>
                    <a:off x="4483800" y="2678040"/>
                    <a:ext cx="894600" cy="2940120"/>
                    <a:chOff x="4483800" y="2678040"/>
                    <a:chExt cx="894600" cy="2940120"/>
                  </a:xfrm>
                </p:grpSpPr>
                <p:sp>
                  <p:nvSpPr>
                    <p:cNvPr id="1481" name="Freeform 93"/>
                    <p:cNvSpPr/>
                    <p:nvPr/>
                  </p:nvSpPr>
                  <p:spPr>
                    <a:xfrm flipH="1" rot="16870800">
                      <a:off x="4075560" y="3468960"/>
                      <a:ext cx="189720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2" name="Freeform 94"/>
                    <p:cNvSpPr/>
                    <p:nvPr/>
                  </p:nvSpPr>
                  <p:spPr>
                    <a:xfrm flipH="1" rot="16870800">
                      <a:off x="4338720" y="4798800"/>
                      <a:ext cx="1013760" cy="53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3" name="Group 95"/>
                  <p:cNvGrpSpPr/>
                  <p:nvPr/>
                </p:nvGrpSpPr>
                <p:grpSpPr>
                  <a:xfrm>
                    <a:off x="5679360" y="2481840"/>
                    <a:ext cx="2279520" cy="2950200"/>
                    <a:chOff x="5679360" y="2481840"/>
                    <a:chExt cx="2279520" cy="2950200"/>
                  </a:xfrm>
                </p:grpSpPr>
                <p:sp>
                  <p:nvSpPr>
                    <p:cNvPr id="1484" name="Freeform 96"/>
                    <p:cNvSpPr/>
                    <p:nvPr/>
                  </p:nvSpPr>
                  <p:spPr>
                    <a:xfrm rot="3144000">
                      <a:off x="5415840" y="3250800"/>
                      <a:ext cx="21297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Freeform 97"/>
                    <p:cNvSpPr/>
                    <p:nvPr/>
                  </p:nvSpPr>
                  <p:spPr>
                    <a:xfrm rot="3144000">
                      <a:off x="6800760" y="4493520"/>
                      <a:ext cx="11412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Group 98"/>
                  <p:cNvGrpSpPr/>
                  <p:nvPr/>
                </p:nvGrpSpPr>
                <p:grpSpPr>
                  <a:xfrm>
                    <a:off x="5645880" y="2583360"/>
                    <a:ext cx="1757880" cy="3047400"/>
                    <a:chOff x="5645880" y="2583360"/>
                    <a:chExt cx="1757880" cy="3047400"/>
                  </a:xfrm>
                </p:grpSpPr>
                <p:sp>
                  <p:nvSpPr>
                    <p:cNvPr id="1487" name="Freeform 99"/>
                    <p:cNvSpPr/>
                    <p:nvPr/>
                  </p:nvSpPr>
                  <p:spPr>
                    <a:xfrm rot="3745200">
                      <a:off x="5261760" y="3387600"/>
                      <a:ext cx="203940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Freeform 100"/>
                    <p:cNvSpPr/>
                    <p:nvPr/>
                  </p:nvSpPr>
                  <p:spPr>
                    <a:xfrm rot="3745200">
                      <a:off x="6350040" y="4725720"/>
                      <a:ext cx="109152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9" name="Group 101"/>
                  <p:cNvGrpSpPr/>
                  <p:nvPr/>
                </p:nvGrpSpPr>
                <p:grpSpPr>
                  <a:xfrm>
                    <a:off x="5575680" y="2705760"/>
                    <a:ext cx="1229760" cy="2991240"/>
                    <a:chOff x="5575680" y="2705760"/>
                    <a:chExt cx="1229760" cy="2991240"/>
                  </a:xfrm>
                </p:grpSpPr>
                <p:sp>
                  <p:nvSpPr>
                    <p:cNvPr id="1490" name="Freeform 102"/>
                    <p:cNvSpPr/>
                    <p:nvPr/>
                  </p:nvSpPr>
                  <p:spPr>
                    <a:xfrm rot="4286400">
                      <a:off x="5045040" y="3539880"/>
                      <a:ext cx="19778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1" name="Freeform 103"/>
                    <p:cNvSpPr/>
                    <p:nvPr/>
                  </p:nvSpPr>
                  <p:spPr>
                    <a:xfrm rot="4286400">
                      <a:off x="5879880" y="4880160"/>
                      <a:ext cx="106164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2" name="Group 104"/>
                  <p:cNvGrpSpPr/>
                  <p:nvPr/>
                </p:nvGrpSpPr>
                <p:grpSpPr>
                  <a:xfrm>
                    <a:off x="5522760" y="2839680"/>
                    <a:ext cx="693360" cy="2784600"/>
                    <a:chOff x="5522760" y="2839680"/>
                    <a:chExt cx="693360" cy="2784600"/>
                  </a:xfrm>
                </p:grpSpPr>
                <p:sp>
                  <p:nvSpPr>
                    <p:cNvPr id="1493" name="Freeform 105"/>
                    <p:cNvSpPr/>
                    <p:nvPr/>
                  </p:nvSpPr>
                  <p:spPr>
                    <a:xfrm rot="4898400">
                      <a:off x="4898520" y="3606480"/>
                      <a:ext cx="1813320" cy="304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Freeform 106"/>
                    <p:cNvSpPr/>
                    <p:nvPr/>
                  </p:nvSpPr>
                  <p:spPr>
                    <a:xfrm rot="4898400">
                      <a:off x="5423040" y="4870080"/>
                      <a:ext cx="97380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5" name="Group 107"/>
                  <p:cNvGrpSpPr/>
                  <p:nvPr/>
                </p:nvGrpSpPr>
                <p:grpSpPr>
                  <a:xfrm>
                    <a:off x="4964400" y="2883240"/>
                    <a:ext cx="662760" cy="2723040"/>
                    <a:chOff x="4964400" y="2883240"/>
                    <a:chExt cx="662760" cy="2723040"/>
                  </a:xfrm>
                </p:grpSpPr>
                <p:sp>
                  <p:nvSpPr>
                    <p:cNvPr id="1496" name="Freeform 108"/>
                    <p:cNvSpPr/>
                    <p:nvPr/>
                  </p:nvSpPr>
                  <p:spPr>
                    <a:xfrm rot="5755200">
                      <a:off x="4532760" y="3661920"/>
                      <a:ext cx="177516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7" name="Freeform 109"/>
                    <p:cNvSpPr/>
                    <p:nvPr/>
                  </p:nvSpPr>
                  <p:spPr>
                    <a:xfrm rot="5755200">
                      <a:off x="4717800" y="4928760"/>
                      <a:ext cx="955440" cy="366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98" name="Group 110"/>
              <p:cNvGrpSpPr/>
              <p:nvPr/>
            </p:nvGrpSpPr>
            <p:grpSpPr>
              <a:xfrm>
                <a:off x="2174400" y="675000"/>
                <a:ext cx="6732720" cy="4535280"/>
                <a:chOff x="2174400" y="675000"/>
                <a:chExt cx="6732720" cy="4535280"/>
              </a:xfrm>
            </p:grpSpPr>
            <p:grpSp>
              <p:nvGrpSpPr>
                <p:cNvPr id="1499" name="Group 111"/>
                <p:cNvGrpSpPr/>
                <p:nvPr/>
              </p:nvGrpSpPr>
              <p:grpSpPr>
                <a:xfrm>
                  <a:off x="2174400" y="675000"/>
                  <a:ext cx="6732720" cy="4535280"/>
                  <a:chOff x="2174400" y="675000"/>
                  <a:chExt cx="6732720" cy="4535280"/>
                </a:xfrm>
              </p:grpSpPr>
              <p:sp>
                <p:nvSpPr>
                  <p:cNvPr id="1500" name="Arc 112"/>
                  <p:cNvSpPr/>
                  <p:nvPr/>
                </p:nvSpPr>
                <p:spPr>
                  <a:xfrm flipV="1">
                    <a:off x="5740560" y="849240"/>
                    <a:ext cx="3166560" cy="25318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Arc 113"/>
                  <p:cNvSpPr/>
                  <p:nvPr/>
                </p:nvSpPr>
                <p:spPr>
                  <a:xfrm flipH="1">
                    <a:off x="2561400" y="2269440"/>
                    <a:ext cx="2486880" cy="29408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Arc 114"/>
                  <p:cNvSpPr/>
                  <p:nvPr/>
                </p:nvSpPr>
                <p:spPr>
                  <a:xfrm>
                    <a:off x="5818320" y="1745280"/>
                    <a:ext cx="1758240" cy="29419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Arc 115"/>
                  <p:cNvSpPr/>
                  <p:nvPr/>
                </p:nvSpPr>
                <p:spPr>
                  <a:xfrm flipH="1">
                    <a:off x="2174400" y="1291680"/>
                    <a:ext cx="3133440" cy="29480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Arc 116"/>
                  <p:cNvSpPr/>
                  <p:nvPr/>
                </p:nvSpPr>
                <p:spPr>
                  <a:xfrm flipH="1">
                    <a:off x="3056400" y="675000"/>
                    <a:ext cx="2282760" cy="2847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Arc 117"/>
                  <p:cNvSpPr/>
                  <p:nvPr/>
                </p:nvSpPr>
                <p:spPr>
                  <a:xfrm>
                    <a:off x="5491440" y="1872720"/>
                    <a:ext cx="940680" cy="28479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Freeform 118"/>
                  <p:cNvSpPr/>
                  <p:nvPr/>
                </p:nvSpPr>
                <p:spPr>
                  <a:xfrm flipH="1">
                    <a:off x="4302000" y="828000"/>
                    <a:ext cx="515160" cy="18788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7" name="Freeform 119"/>
                <p:cNvSpPr/>
                <p:nvPr/>
              </p:nvSpPr>
              <p:spPr>
                <a:xfrm rot="20253000">
                  <a:off x="6127560" y="2180520"/>
                  <a:ext cx="546120" cy="103608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8" name="Group 120"/>
            <p:cNvGrpSpPr/>
            <p:nvPr/>
          </p:nvGrpSpPr>
          <p:grpSpPr>
            <a:xfrm>
              <a:off x="2343960" y="848880"/>
              <a:ext cx="6411960" cy="4706640"/>
              <a:chOff x="2343960" y="848880"/>
              <a:chExt cx="6411960" cy="4706640"/>
            </a:xfrm>
          </p:grpSpPr>
          <p:sp>
            <p:nvSpPr>
              <p:cNvPr id="1509" name="Freeform 121"/>
              <p:cNvSpPr/>
              <p:nvPr/>
            </p:nvSpPr>
            <p:spPr>
              <a:xfrm flipH="1">
                <a:off x="4470840" y="3369960"/>
                <a:ext cx="598320" cy="1823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Arc 122"/>
              <p:cNvSpPr/>
              <p:nvPr/>
            </p:nvSpPr>
            <p:spPr>
              <a:xfrm flipH="1">
                <a:off x="3385440" y="2715120"/>
                <a:ext cx="2617200" cy="284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Arc 123"/>
              <p:cNvSpPr/>
              <p:nvPr/>
            </p:nvSpPr>
            <p:spPr>
              <a:xfrm flipH="1">
                <a:off x="3646800" y="2257920"/>
                <a:ext cx="1534320" cy="2932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Arc 124"/>
              <p:cNvSpPr/>
              <p:nvPr/>
            </p:nvSpPr>
            <p:spPr>
              <a:xfrm flipH="1">
                <a:off x="2343600" y="1874520"/>
                <a:ext cx="2930760" cy="2932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Arc 125"/>
              <p:cNvSpPr/>
              <p:nvPr/>
            </p:nvSpPr>
            <p:spPr>
              <a:xfrm>
                <a:off x="5588640" y="2286360"/>
                <a:ext cx="469800" cy="29329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Arc 126"/>
              <p:cNvSpPr/>
              <p:nvPr/>
            </p:nvSpPr>
            <p:spPr>
              <a:xfrm>
                <a:off x="5711760" y="2272680"/>
                <a:ext cx="1238040" cy="2932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Freeform 127"/>
              <p:cNvSpPr/>
              <p:nvPr/>
            </p:nvSpPr>
            <p:spPr>
              <a:xfrm>
                <a:off x="6155640" y="3682080"/>
                <a:ext cx="598320" cy="1823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Freeform 128"/>
              <p:cNvSpPr/>
              <p:nvPr/>
            </p:nvSpPr>
            <p:spPr>
              <a:xfrm flipV="1" rot="19660800">
                <a:off x="5227200" y="3081960"/>
                <a:ext cx="543600" cy="10332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Freeform 129"/>
              <p:cNvSpPr/>
              <p:nvPr/>
            </p:nvSpPr>
            <p:spPr>
              <a:xfrm flipH="1">
                <a:off x="2688120" y="3519360"/>
                <a:ext cx="1338480" cy="1878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Freeform 130"/>
              <p:cNvSpPr/>
              <p:nvPr/>
            </p:nvSpPr>
            <p:spPr>
              <a:xfrm flipH="1">
                <a:off x="3318840" y="1534320"/>
                <a:ext cx="858240" cy="1878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Freeform 131"/>
              <p:cNvSpPr/>
              <p:nvPr/>
            </p:nvSpPr>
            <p:spPr>
              <a:xfrm>
                <a:off x="7513920" y="3242880"/>
                <a:ext cx="1242000" cy="19724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Freeform 132"/>
              <p:cNvSpPr/>
              <p:nvPr/>
            </p:nvSpPr>
            <p:spPr>
              <a:xfrm>
                <a:off x="6868800" y="2245680"/>
                <a:ext cx="1872360" cy="13154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Freeform 133"/>
              <p:cNvSpPr/>
              <p:nvPr/>
            </p:nvSpPr>
            <p:spPr>
              <a:xfrm>
                <a:off x="6937920" y="848880"/>
                <a:ext cx="819000" cy="1767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Freeform 134"/>
              <p:cNvSpPr/>
              <p:nvPr/>
            </p:nvSpPr>
            <p:spPr>
              <a:xfrm flipH="1" rot="1347000">
                <a:off x="4184640" y="2289960"/>
                <a:ext cx="542880" cy="10317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2D88-4A96-42DF-A72B-3838A1EF2864}" type="slidenum">
              <a:rPr b="0" lang="ru-RU" sz="2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4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5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12"/>
            <p:cNvGrpSpPr/>
            <p:nvPr/>
          </p:nvGrpSpPr>
          <p:grpSpPr>
            <a:xfrm>
              <a:off x="6274080" y="-21240"/>
              <a:ext cx="2869560" cy="2268000"/>
              <a:chOff x="6274080" y="-21240"/>
              <a:chExt cx="2869560" cy="2268000"/>
            </a:xfrm>
          </p:grpSpPr>
          <p:grpSp>
            <p:nvGrpSpPr>
              <p:cNvPr id="15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16"/>
              <p:cNvGrpSpPr/>
              <p:nvPr/>
            </p:nvGrpSpPr>
            <p:grpSpPr>
              <a:xfrm>
                <a:off x="6274080" y="-21240"/>
                <a:ext cx="2866320" cy="2268000"/>
                <a:chOff x="6274080" y="-21240"/>
                <a:chExt cx="2866320" cy="2268000"/>
              </a:xfrm>
            </p:grpSpPr>
            <p:grpSp>
              <p:nvGrpSpPr>
                <p:cNvPr id="162" name="Group 17"/>
                <p:cNvGrpSpPr/>
                <p:nvPr/>
              </p:nvGrpSpPr>
              <p:grpSpPr>
                <a:xfrm>
                  <a:off x="7825320" y="846360"/>
                  <a:ext cx="1065240" cy="1140480"/>
                  <a:chOff x="7825320" y="846360"/>
                  <a:chExt cx="1065240" cy="1140480"/>
                </a:xfrm>
              </p:grpSpPr>
              <p:sp>
                <p:nvSpPr>
                  <p:cNvPr id="163" name="Freeform 18"/>
                  <p:cNvSpPr/>
                  <p:nvPr/>
                </p:nvSpPr>
                <p:spPr>
                  <a:xfrm rot="2711400">
                    <a:off x="7747920" y="1145520"/>
                    <a:ext cx="9104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Freeform 19"/>
                  <p:cNvSpPr/>
                  <p:nvPr/>
                </p:nvSpPr>
                <p:spPr>
                  <a:xfrm rot="2711400">
                    <a:off x="8417160" y="1613880"/>
                    <a:ext cx="45108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6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6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172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Group 29"/>
                <p:cNvGrpSpPr/>
                <p:nvPr/>
              </p:nvGrpSpPr>
              <p:grpSpPr>
                <a:xfrm>
                  <a:off x="7851600" y="657720"/>
                  <a:ext cx="1224000" cy="417600"/>
                  <a:chOff x="7851600" y="657720"/>
                  <a:chExt cx="1224000" cy="417600"/>
                </a:xfrm>
              </p:grpSpPr>
              <p:sp>
                <p:nvSpPr>
                  <p:cNvPr id="175" name="Freeform 30"/>
                  <p:cNvSpPr/>
                  <p:nvPr/>
                </p:nvSpPr>
                <p:spPr>
                  <a:xfrm rot="463200">
                    <a:off x="7859520" y="709920"/>
                    <a:ext cx="7920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Freeform 31"/>
                  <p:cNvSpPr/>
                  <p:nvPr/>
                </p:nvSpPr>
                <p:spPr>
                  <a:xfrm rot="463200">
                    <a:off x="8635680" y="802440"/>
                    <a:ext cx="42516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78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" name="Group 35"/>
                <p:cNvGrpSpPr/>
                <p:nvPr/>
              </p:nvGrpSpPr>
              <p:grpSpPr>
                <a:xfrm>
                  <a:off x="7845840" y="420840"/>
                  <a:ext cx="983520" cy="326160"/>
                  <a:chOff x="7845840" y="420840"/>
                  <a:chExt cx="983520" cy="326160"/>
                </a:xfrm>
              </p:grpSpPr>
              <p:sp>
                <p:nvSpPr>
                  <p:cNvPr id="181" name="Freeform 36"/>
                  <p:cNvSpPr/>
                  <p:nvPr/>
                </p:nvSpPr>
                <p:spPr>
                  <a:xfrm rot="20797200">
                    <a:off x="7849440" y="567720"/>
                    <a:ext cx="63684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Freeform 37"/>
                  <p:cNvSpPr/>
                  <p:nvPr/>
                </p:nvSpPr>
                <p:spPr>
                  <a:xfrm rot="20797200">
                    <a:off x="8485200" y="456120"/>
                    <a:ext cx="3279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Group 38"/>
                <p:cNvGrpSpPr/>
                <p:nvPr/>
              </p:nvGrpSpPr>
              <p:grpSpPr>
                <a:xfrm>
                  <a:off x="6539760" y="907200"/>
                  <a:ext cx="1061640" cy="1141560"/>
                  <a:chOff x="6539760" y="907200"/>
                  <a:chExt cx="1061640" cy="1141560"/>
                </a:xfrm>
              </p:grpSpPr>
              <p:sp>
                <p:nvSpPr>
                  <p:cNvPr id="184" name="Freeform 39"/>
                  <p:cNvSpPr/>
                  <p:nvPr/>
                </p:nvSpPr>
                <p:spPr>
                  <a:xfrm flipH="1" rot="18888600">
                    <a:off x="6795720" y="1196640"/>
                    <a:ext cx="880200" cy="15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Freeform 40"/>
                  <p:cNvSpPr/>
                  <p:nvPr/>
                </p:nvSpPr>
                <p:spPr>
                  <a:xfrm flipH="1" rot="18888600">
                    <a:off x="6560280" y="1664640"/>
                    <a:ext cx="471600" cy="254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87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90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93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96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99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0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0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208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1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1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217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220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223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228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3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3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6" name="Group 91"/>
                <p:cNvGrpSpPr/>
                <p:nvPr/>
              </p:nvGrpSpPr>
              <p:grpSpPr>
                <a:xfrm>
                  <a:off x="6708960" y="932760"/>
                  <a:ext cx="924480" cy="1244880"/>
                  <a:chOff x="6708960" y="932760"/>
                  <a:chExt cx="924480" cy="1244880"/>
                </a:xfrm>
              </p:grpSpPr>
              <p:sp>
                <p:nvSpPr>
                  <p:cNvPr id="237" name="Freeform 92"/>
                  <p:cNvSpPr/>
                  <p:nvPr/>
                </p:nvSpPr>
                <p:spPr>
                  <a:xfrm flipH="1" rot="18336000">
                    <a:off x="6842520" y="1271520"/>
                    <a:ext cx="9162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Freeform 93"/>
                  <p:cNvSpPr/>
                  <p:nvPr/>
                </p:nvSpPr>
                <p:spPr>
                  <a:xfrm flipH="1" rot="18336000">
                    <a:off x="6709680" y="1783800"/>
                    <a:ext cx="48204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Group 94"/>
                <p:cNvGrpSpPr/>
                <p:nvPr/>
              </p:nvGrpSpPr>
              <p:grpSpPr>
                <a:xfrm>
                  <a:off x="7016040" y="979920"/>
                  <a:ext cx="618840" cy="1247760"/>
                  <a:chOff x="7016040" y="979920"/>
                  <a:chExt cx="618840" cy="1247760"/>
                </a:xfrm>
              </p:grpSpPr>
              <p:sp>
                <p:nvSpPr>
                  <p:cNvPr id="240" name="Freeform 95"/>
                  <p:cNvSpPr/>
                  <p:nvPr/>
                </p:nvSpPr>
                <p:spPr>
                  <a:xfrm flipH="1" rot="17543400">
                    <a:off x="6982920" y="1316520"/>
                    <a:ext cx="8362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Freeform 96"/>
                  <p:cNvSpPr/>
                  <p:nvPr/>
                </p:nvSpPr>
                <p:spPr>
                  <a:xfrm flipH="1" rot="17543400">
                    <a:off x="6998400" y="1855440"/>
                    <a:ext cx="430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Group 97"/>
                <p:cNvGrpSpPr/>
                <p:nvPr/>
              </p:nvGrpSpPr>
              <p:grpSpPr>
                <a:xfrm>
                  <a:off x="7311600" y="999720"/>
                  <a:ext cx="365760" cy="1220400"/>
                  <a:chOff x="7311600" y="999720"/>
                  <a:chExt cx="365760" cy="1220400"/>
                </a:xfrm>
              </p:grpSpPr>
              <p:sp>
                <p:nvSpPr>
                  <p:cNvPr id="243" name="Freeform 98"/>
                  <p:cNvSpPr/>
                  <p:nvPr/>
                </p:nvSpPr>
                <p:spPr>
                  <a:xfrm flipH="1" rot="16870800">
                    <a:off x="7122600" y="1326600"/>
                    <a:ext cx="797760" cy="15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Freeform 99"/>
                  <p:cNvSpPr/>
                  <p:nvPr/>
                </p:nvSpPr>
                <p:spPr>
                  <a:xfrm flipH="1" rot="16870800">
                    <a:off x="7254000" y="1870920"/>
                    <a:ext cx="426240" cy="23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4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Group 103"/>
                <p:cNvGrpSpPr/>
                <p:nvPr/>
              </p:nvGrpSpPr>
              <p:grpSpPr>
                <a:xfrm>
                  <a:off x="7786800" y="956160"/>
                  <a:ext cx="732960" cy="1262160"/>
                  <a:chOff x="7786800" y="956160"/>
                  <a:chExt cx="732960" cy="1262160"/>
                </a:xfrm>
              </p:grpSpPr>
              <p:sp>
                <p:nvSpPr>
                  <p:cNvPr id="249" name="Freeform 104"/>
                  <p:cNvSpPr/>
                  <p:nvPr/>
                </p:nvSpPr>
                <p:spPr>
                  <a:xfrm rot="3745200">
                    <a:off x="7627680" y="1289520"/>
                    <a:ext cx="84564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105"/>
                  <p:cNvSpPr/>
                  <p:nvPr/>
                </p:nvSpPr>
                <p:spPr>
                  <a:xfrm rot="3745200">
                    <a:off x="8079480" y="1839960"/>
                    <a:ext cx="45540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Group 106"/>
                <p:cNvGrpSpPr/>
                <p:nvPr/>
              </p:nvGrpSpPr>
              <p:grpSpPr>
                <a:xfrm>
                  <a:off x="7753680" y="1005840"/>
                  <a:ext cx="514800" cy="1240920"/>
                  <a:chOff x="7753680" y="1005840"/>
                  <a:chExt cx="514800" cy="1240920"/>
                </a:xfrm>
              </p:grpSpPr>
              <p:sp>
                <p:nvSpPr>
                  <p:cNvPr id="252" name="Freeform 107"/>
                  <p:cNvSpPr/>
                  <p:nvPr/>
                </p:nvSpPr>
                <p:spPr>
                  <a:xfrm rot="4286400">
                    <a:off x="7525080" y="1363320"/>
                    <a:ext cx="84492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Freeform 108"/>
                  <p:cNvSpPr/>
                  <p:nvPr/>
                </p:nvSpPr>
                <p:spPr>
                  <a:xfrm rot="4286400">
                    <a:off x="7878240" y="1902960"/>
                    <a:ext cx="449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Group 109"/>
                <p:cNvGrpSpPr/>
                <p:nvPr/>
              </p:nvGrpSpPr>
              <p:grpSpPr>
                <a:xfrm>
                  <a:off x="7733160" y="1058760"/>
                  <a:ext cx="291600" cy="1155240"/>
                  <a:chOff x="7733160" y="1058760"/>
                  <a:chExt cx="291600" cy="1155240"/>
                </a:xfrm>
              </p:grpSpPr>
              <p:sp>
                <p:nvSpPr>
                  <p:cNvPr id="255" name="Freeform 110"/>
                  <p:cNvSpPr/>
                  <p:nvPr/>
                </p:nvSpPr>
                <p:spPr>
                  <a:xfrm rot="4898400">
                    <a:off x="7471080" y="1380240"/>
                    <a:ext cx="7592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Freeform 111"/>
                  <p:cNvSpPr/>
                  <p:nvPr/>
                </p:nvSpPr>
                <p:spPr>
                  <a:xfrm rot="4898400">
                    <a:off x="7687440" y="1893960"/>
                    <a:ext cx="41796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Group 112"/>
                <p:cNvGrpSpPr/>
                <p:nvPr/>
              </p:nvGrpSpPr>
              <p:grpSpPr>
                <a:xfrm>
                  <a:off x="7499880" y="1077840"/>
                  <a:ext cx="278640" cy="1131120"/>
                  <a:chOff x="7499880" y="1077840"/>
                  <a:chExt cx="278640" cy="1131120"/>
                </a:xfrm>
              </p:grpSpPr>
              <p:sp>
                <p:nvSpPr>
                  <p:cNvPr id="258" name="Freeform 113"/>
                  <p:cNvSpPr/>
                  <p:nvPr/>
                </p:nvSpPr>
                <p:spPr>
                  <a:xfrm rot="5755200">
                    <a:off x="7308720" y="1415160"/>
                    <a:ext cx="76536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Freeform 114"/>
                  <p:cNvSpPr/>
                  <p:nvPr/>
                </p:nvSpPr>
                <p:spPr>
                  <a:xfrm rot="5755200">
                    <a:off x="7391160" y="1921320"/>
                    <a:ext cx="4096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AABF-F3A1-4B0D-A856-60780B3B61DF}" type="slidenum">
              <a:rPr b="0" lang="ru-RU" sz="2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E1BE-AF5F-40A0-AB7F-BE5C37F0A50D}" type="slidenum">
              <a:rPr b="0" lang="ru-RU" sz="2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FDBA-3081-45D3-8075-F1138A689BDB}" type="slidenum">
              <a:rPr b="0" lang="ru-RU" sz="2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3798-81B5-4439-9F5B-1D99D69CA6BC}" type="slidenum">
              <a:rPr b="0" lang="ru-RU" sz="2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79F1-6916-45FA-9C3A-BCC4B04424A8}" type="slidenum">
              <a:rPr b="0" lang="ru-RU" sz="2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E56E-A476-4F44-B450-C64586A6AF5C}" type="slidenum">
              <a:rPr b="0" lang="ru-RU" sz="2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4145-6A2A-4BBF-AF05-34D12E4604C6}" type="slidenum">
              <a:rPr b="0" lang="ru-RU" sz="2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F05F-7C69-45E6-822D-31FE9714D0FA}" type="slidenum">
              <a:rPr b="0" lang="ru-RU" sz="2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834F-48EE-41F5-B887-B33BD8A963DA}" type="slidenum">
              <a:rPr b="0" lang="ru-RU" sz="2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9B73-9877-4311-841D-E49D56247CF8}" type="slidenum">
              <a:rPr b="0" lang="ru-RU" sz="2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C2DA-C8D8-4856-A1AA-73A76683DA06}" type="slidenum">
              <a:rPr b="0" lang="ru-RU" sz="2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56DA-236D-4F92-B40D-418A7C83DED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186D-B254-4A27-82A8-0FF00CEF1D9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D66C-25E3-4BD9-B5AD-9F2948769B0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A50D-41A3-4F7C-95BC-50CE666FEAE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7C1E-E257-4D0B-9D35-BC01C5AEEAD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FC96-E917-4954-AAE0-4B03AF98B3B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33160" y="1828800"/>
            <a:ext cx="8305560" cy="2819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Анализ работы школы</a:t>
            </a:r>
            <a:br>
              <a:rPr sz="4400"/>
            </a:b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 за 2010 - 2011 учебный год,</a:t>
            </a:r>
            <a:br>
              <a:rPr sz="4400"/>
            </a:b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цели и задачи </a:t>
            </a:r>
            <a:br>
              <a:rPr sz="4400"/>
            </a:b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на 2011 – 2012 учебный год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1828800" y="548604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Динамика успеваемости по предметам и образовательным областям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02" name=""/>
          <p:cNvGraphicFramePr/>
          <p:nvPr/>
        </p:nvGraphicFramePr>
        <p:xfrm>
          <a:off x="228600" y="762120"/>
          <a:ext cx="8686800" cy="5927760"/>
        </p:xfrm>
        <a:graphic>
          <a:graphicData uri="http://schemas.openxmlformats.org/drawingml/2006/table">
            <a:tbl>
              <a:tblPr/>
              <a:tblGrid>
                <a:gridCol w="2895480"/>
                <a:gridCol w="1524240"/>
                <a:gridCol w="1371600"/>
                <a:gridCol w="1552320"/>
                <a:gridCol w="1343160"/>
              </a:tblGrid>
              <a:tr h="504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 полугодие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обученности, %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ачество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знаний, %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обученности, %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ачество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знаний, %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71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79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82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85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95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68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65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МХК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99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6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66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Изобразительное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искусство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98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98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99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55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96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99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97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99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Черчение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65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68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99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98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5f03"/>
                </a:solidFill>
                <a:latin typeface="Times New Roman"/>
              </a:rPr>
              <a:t>Динамика успеваемости по школе по ступеням обуч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04" name=""/>
          <p:cNvGraphicFramePr/>
          <p:nvPr/>
        </p:nvGraphicFramePr>
        <p:xfrm>
          <a:off x="228600" y="1523880"/>
          <a:ext cx="8686800" cy="5064120"/>
        </p:xfrm>
        <a:graphic>
          <a:graphicData uri="http://schemas.openxmlformats.org/drawingml/2006/table">
            <a:tbl>
              <a:tblPr/>
              <a:tblGrid>
                <a:gridCol w="1589040"/>
                <a:gridCol w="1771560"/>
                <a:gridCol w="1774800"/>
                <a:gridCol w="1776600"/>
                <a:gridCol w="1774800"/>
              </a:tblGrid>
              <a:tr h="738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Ступен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 полугоди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обученности, 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ачеств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знаний, 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обученности, 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ачеств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знаний, 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7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7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8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3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4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3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5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I - III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5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5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5f03"/>
                </a:solidFill>
                <a:latin typeface="Times New Roman"/>
              </a:rPr>
              <a:t>Выбор экзаменов учащимися </a:t>
            </a:r>
            <a:br>
              <a:rPr sz="4000"/>
            </a:br>
            <a:r>
              <a:rPr b="1" lang="en-US" sz="4000" spc="-1" strike="noStrike">
                <a:solidFill>
                  <a:srgbClr val="bb5f03"/>
                </a:solidFill>
                <a:latin typeface="Times New Roman"/>
              </a:rPr>
              <a:t>7-8 класс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06" name=""/>
          <p:cNvGraphicFramePr/>
          <p:nvPr/>
        </p:nvGraphicFramePr>
        <p:xfrm>
          <a:off x="228600" y="1066680"/>
          <a:ext cx="8763120" cy="5486400"/>
        </p:xfrm>
        <a:graphic>
          <a:graphicData uri="http://schemas.openxmlformats.org/drawingml/2006/table">
            <a:tbl>
              <a:tblPr/>
              <a:tblGrid>
                <a:gridCol w="2433600"/>
                <a:gridCol w="1947960"/>
                <a:gridCol w="2190600"/>
                <a:gridCol w="2190960"/>
              </a:tblGrid>
              <a:tr h="692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7 класс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8 класс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Предме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%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Предме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%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география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90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ИКТ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42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история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60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химия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81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</a:tr>
              <a:tr h="128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иностранный язык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29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биология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29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</a:tr>
              <a:tr h="12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физика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27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bb5f03"/>
                          </a:solidFill>
                          <a:latin typeface="Times New Roman"/>
                        </a:rPr>
                        <a:t>русский язык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44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зультаты переводных экзаменов в 5-8 классах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08" name=""/>
          <p:cNvGraphicFramePr/>
          <p:nvPr/>
        </p:nvGraphicFramePr>
        <p:xfrm>
          <a:off x="152280" y="609480"/>
          <a:ext cx="8839440" cy="5637240"/>
        </p:xfrm>
        <a:graphic>
          <a:graphicData uri="http://schemas.openxmlformats.org/drawingml/2006/table">
            <a:tbl>
              <a:tblPr/>
              <a:tblGrid>
                <a:gridCol w="990720"/>
                <a:gridCol w="2546280"/>
                <a:gridCol w="1111320"/>
                <a:gridCol w="1371600"/>
                <a:gridCol w="281952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клас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предм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результатив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Ф.И.О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учител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12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%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обученност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качеств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5-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Русский язы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8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Горбенко Н. Н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Математик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8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Шевченко Л. И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6-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Русский язы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8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Буракова И. И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7-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Иностранный язы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Ячменькова В. И.,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Сивоконева М. Е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119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7-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Иностранный язы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Александрова А. Ю., Сивоконева М. Е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Физик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8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Свинухова Н. Ф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езультаты переводных экзаменов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 5-8 классах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10" name=""/>
          <p:cNvGraphicFramePr/>
          <p:nvPr/>
        </p:nvGraphicFramePr>
        <p:xfrm>
          <a:off x="304920" y="1447920"/>
          <a:ext cx="8686800" cy="4876560"/>
        </p:xfrm>
        <a:graphic>
          <a:graphicData uri="http://schemas.openxmlformats.org/drawingml/2006/table">
            <a:tbl>
              <a:tblPr/>
              <a:tblGrid>
                <a:gridCol w="973080"/>
                <a:gridCol w="2471760"/>
                <a:gridCol w="1123920"/>
                <a:gridCol w="1347840"/>
                <a:gridCol w="2770200"/>
              </a:tblGrid>
              <a:tr h="552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клас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предм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результатив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Ф.И.О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учител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156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%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обученност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bf7300"/>
                          </a:solidFill>
                          <a:latin typeface="Times New Roman"/>
                        </a:rPr>
                        <a:t>качеств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8-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Русский язы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7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Горбенко Н. Н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55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Биология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7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Баштанник Н. Е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55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Информатик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8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Афанасьева Н. К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550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8-б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Биолог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Баштанник Н. Е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55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Информатик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7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f4d00"/>
                          </a:solidFill>
                          <a:latin typeface="Times New Roman"/>
                        </a:rPr>
                        <a:t>Афанасьева Н. К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бор предметов для итоговой аттестации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 9 классах в традиционной форме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12" name="Object 7"/>
          <p:cNvGraphicFramePr/>
          <p:nvPr/>
        </p:nvGraphicFramePr>
        <p:xfrm>
          <a:off x="304920" y="1143000"/>
          <a:ext cx="852804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5280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5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55000"/>
                </a:solidFill>
                <a:latin typeface="Times New Roman"/>
              </a:rPr>
              <a:t>Выбор предметов для итоговой аттестации в новой форме в 9 классах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15" name="Object 7"/>
          <p:cNvGraphicFramePr/>
          <p:nvPr/>
        </p:nvGraphicFramePr>
        <p:xfrm>
          <a:off x="228600" y="1371600"/>
          <a:ext cx="8667720" cy="52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371600"/>
                    <a:ext cx="866772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зультаты выпускных экзаменов в 9 классах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русский язык, ГИА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18" name=""/>
          <p:cNvGraphicFramePr/>
          <p:nvPr/>
        </p:nvGraphicFramePr>
        <p:xfrm>
          <a:off x="228600" y="990720"/>
          <a:ext cx="8686800" cy="5562360"/>
        </p:xfrm>
        <a:graphic>
          <a:graphicData uri="http://schemas.openxmlformats.org/drawingml/2006/table">
            <a:tbl>
              <a:tblPr/>
              <a:tblGrid>
                <a:gridCol w="739800"/>
                <a:gridCol w="642960"/>
                <a:gridCol w="804960"/>
                <a:gridCol w="804600"/>
                <a:gridCol w="804960"/>
                <a:gridCol w="1285920"/>
                <a:gridCol w="1165320"/>
                <a:gridCol w="2438280"/>
              </a:tblGrid>
              <a:tr h="2549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ол-во об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Уровень обученности, 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ачество знаний,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9-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Горбенко Н. Н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9-б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Горбенко Н. Н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9 кл.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Горбенко Н. Н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езультаты выпускных экзаменов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 9 классах (математика, ГИА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20" name=""/>
          <p:cNvGraphicFramePr/>
          <p:nvPr/>
        </p:nvGraphicFramePr>
        <p:xfrm>
          <a:off x="228600" y="1371600"/>
          <a:ext cx="8763120" cy="5105520"/>
        </p:xfrm>
        <a:graphic>
          <a:graphicData uri="http://schemas.openxmlformats.org/drawingml/2006/table">
            <a:tbl>
              <a:tblPr/>
              <a:tblGrid>
                <a:gridCol w="969840"/>
                <a:gridCol w="976320"/>
                <a:gridCol w="801720"/>
                <a:gridCol w="668520"/>
                <a:gridCol w="668160"/>
                <a:gridCol w="1336680"/>
                <a:gridCol w="1040040"/>
                <a:gridCol w="2301840"/>
              </a:tblGrid>
              <a:tr h="52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ол-во сдающи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Отметк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Обучен., 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ачество знаний, 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9-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Юсупова Л. Л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9-б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Юсупова Л. Л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9 кл.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Юсупова Л. Л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Результаты итоговой аттестации 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в 9 классах в новой форме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22" name=""/>
          <p:cNvGraphicFramePr/>
          <p:nvPr/>
        </p:nvGraphicFramePr>
        <p:xfrm>
          <a:off x="457200" y="1371600"/>
          <a:ext cx="8458200" cy="4503600"/>
        </p:xfrm>
        <a:graphic>
          <a:graphicData uri="http://schemas.openxmlformats.org/drawingml/2006/table">
            <a:tbl>
              <a:tblPr/>
              <a:tblGrid>
                <a:gridCol w="2913120"/>
                <a:gridCol w="2421000"/>
                <a:gridCol w="3124080"/>
              </a:tblGrid>
              <a:tr h="103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Предмет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Качество знаний,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Учитель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Хими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7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Маркина Н. Н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Биологи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Баштанник Н. Е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Обществознани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Мороз И. В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</a:tr>
              <a:tr h="99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Физи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d55000"/>
                          </a:solidFill>
                          <a:latin typeface="Times New Roman"/>
                        </a:rPr>
                        <a:t>Семенченко М. В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5f03"/>
                      </a:solidFill>
                    </a:lnL>
                    <a:lnR w="5760">
                      <a:solidFill>
                        <a:srgbClr val="bb5f03"/>
                      </a:solidFill>
                    </a:lnR>
                    <a:lnT w="5760">
                      <a:solidFill>
                        <a:srgbClr val="bb5f03"/>
                      </a:solidFill>
                    </a:lnT>
                    <a:lnB w="5760">
                      <a:solidFill>
                        <a:srgbClr val="bb5f03"/>
                      </a:solidFill>
                    </a:lnB>
                    <a:solidFill>
                      <a:srgbClr val="f3ea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4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d2"/>
                </a:solidFill>
                <a:latin typeface="Times New Roman"/>
              </a:rPr>
              <a:t>Распределение учащихся </a:t>
            </a:r>
            <a:br>
              <a:rPr sz="2400"/>
            </a:br>
            <a:r>
              <a:rPr b="1" lang="en-US" sz="2400" spc="-1" strike="noStrike">
                <a:solidFill>
                  <a:srgbClr val="0078d2"/>
                </a:solidFill>
                <a:latin typeface="Times New Roman"/>
              </a:rPr>
              <a:t>по группам здоровья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984" name=""/>
          <p:cNvGraphicFramePr/>
          <p:nvPr/>
        </p:nvGraphicFramePr>
        <p:xfrm>
          <a:off x="380880" y="1066680"/>
          <a:ext cx="8458200" cy="5681880"/>
        </p:xfrm>
        <a:graphic>
          <a:graphicData uri="http://schemas.openxmlformats.org/drawingml/2006/table">
            <a:tbl>
              <a:tblPr/>
              <a:tblGrid>
                <a:gridCol w="1447920"/>
                <a:gridCol w="1233360"/>
                <a:gridCol w="1967040"/>
                <a:gridCol w="1630440"/>
                <a:gridCol w="2179440"/>
              </a:tblGrid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божден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упен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-2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-20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I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ен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-2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-20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I I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пен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-2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-20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-2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-20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Результаты итоговой аттестации 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в 9 классах в традиционной форм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24" name=""/>
          <p:cNvGraphicFramePr/>
          <p:nvPr/>
        </p:nvGraphicFramePr>
        <p:xfrm>
          <a:off x="76320" y="1523880"/>
          <a:ext cx="8839080" cy="510552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МЕ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bb5f0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ЧЕСТВО ЗНАНИЙ,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bb5f0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ИТЕЛ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bb5f03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Обществозн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e7d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71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e7d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Мороз И. В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e7d2cb"/>
                    </a:soli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Английский язы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80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Мальченко Г. В., Дикова Н. Ю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f3eae7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Немецкий язы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e7d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66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e7d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Ячменькова В. И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e7d2cb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Черчение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69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Мамонова С. И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f3eae7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Географ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e7d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53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e7d2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Погребец Л. В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e7d2cb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Физкультура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90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f3ea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Шевченко В. В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895002"/>
                      </a:solidFill>
                    </a:lnL>
                    <a:lnR w="18720">
                      <a:solidFill>
                        <a:srgbClr val="895002"/>
                      </a:solidFill>
                    </a:lnR>
                    <a:lnT w="18720">
                      <a:solidFill>
                        <a:srgbClr val="895002"/>
                      </a:solidFill>
                    </a:lnT>
                    <a:lnB w="18720">
                      <a:solidFill>
                        <a:srgbClr val="895002"/>
                      </a:solidFill>
                    </a:lnB>
                    <a:solidFill>
                      <a:srgbClr val="f3ea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редние баллы по ЕГЭ в 2011 году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РУССКИЙ ЯЗЫК, средний балл в городе –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61,66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учшие школы – 15, 31 (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70,05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), 9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26" name="Object 4"/>
          <p:cNvGraphicFramePr/>
          <p:nvPr/>
        </p:nvGraphicFramePr>
        <p:xfrm>
          <a:off x="46080" y="1616040"/>
          <a:ext cx="91440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80" y="161604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20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редние баллы по ЕГЭ в 2011 году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МАТЕМАТИКА, средний балл в городе –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48,0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учшие школы – 31 (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55,9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), 6, 1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29" name="Object 4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250" autoRev="1" fill="hold"/>
                                        <p:tgtEl>
                                          <p:spTgt spid="20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редние баллы по ЕГЭ в 2011 году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ФИЗИКА, средний балл в городе –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44,94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учшие школы – 31 (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55,6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), 14, 6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32" name="Object 4"/>
          <p:cNvGraphicFramePr/>
          <p:nvPr/>
        </p:nvGraphicFramePr>
        <p:xfrm>
          <a:off x="0" y="1371600"/>
          <a:ext cx="914400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20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редние баллы по ЕГЭ в 2011 году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ХИМИЯ, средний балл в городе –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51,36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учшие школы – 32, 14, 7, 31 – 4 место (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58,8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35" name="Object 4"/>
          <p:cNvGraphicFramePr/>
          <p:nvPr/>
        </p:nvGraphicFramePr>
        <p:xfrm>
          <a:off x="0" y="1371600"/>
          <a:ext cx="914400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20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редние баллы по ЕГЭ в 2011 году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БИОЛОГИЯ, средний балл в городе –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51,77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учшие школы – 31 (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64,4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), 12, 19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38" name="Object 4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20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редние баллы по ЕГЭ в 2011 году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ОБЩЕСТВОЗНАНИЕ, средний балл в городе –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53,18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учшие школы – 9,15, 1, …, 31 – 7 место(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55,5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41" name="Object 4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20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редние баллы по ЕГЭ в 2011году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ИСТОРИЯ, средний балл в городе –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42,68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учшие школы – 8, 10, 31 (</a:t>
            </a:r>
            <a:r>
              <a:rPr b="1" lang="en-US" sz="2400" spc="-1" strike="noStrike">
                <a:solidFill>
                  <a:srgbClr val="0078d2"/>
                </a:solidFill>
                <a:latin typeface="Times New Roman"/>
              </a:rPr>
              <a:t>55,7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44" name="Object 4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20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редние баллы по ЕГЭ в 2011году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ИТЕРАТУРА, средний балл в городе –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46,62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учшие школы – 19, 2, 7, 31 – 4 место(</a:t>
            </a:r>
            <a:r>
              <a:rPr b="1" lang="en-US" sz="2400" spc="-1" strike="noStrike">
                <a:solidFill>
                  <a:srgbClr val="0078d2"/>
                </a:solidFill>
                <a:latin typeface="Times New Roman"/>
              </a:rPr>
              <a:t>66,5</a:t>
            </a:r>
            <a:r>
              <a:rPr b="1" lang="en-US" sz="2400" spc="-1" strike="noStrike">
                <a:solidFill>
                  <a:srgbClr val="895002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47" name="Object 4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250" autoRev="1" fill="hold"/>
                                        <p:tgtEl>
                                          <p:spTgt spid="20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редние баллы по ЕГЭ в 2011году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АНГЛИЙСКИЙ ЯЗЫК, средний балл в городе –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49,29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учшие школы – 8, 19, 31 (</a:t>
            </a:r>
            <a:r>
              <a:rPr b="1" lang="en-US" sz="2400" spc="-1" strike="noStrike">
                <a:solidFill>
                  <a:srgbClr val="0078d2"/>
                </a:solidFill>
                <a:latin typeface="Times New Roman"/>
              </a:rPr>
              <a:t>73,6</a:t>
            </a:r>
            <a:r>
              <a:rPr b="1" lang="en-US" sz="2400" spc="-1" strike="noStrike">
                <a:solidFill>
                  <a:srgbClr val="895002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1" name="Object 4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250" autoRev="1" fill="hold"/>
                                        <p:tgtEl>
                                          <p:spTgt spid="20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Кружки и секции по интереса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380880" y="1600200"/>
          <a:ext cx="8229600" cy="4635360"/>
        </p:xfrm>
        <a:graphic>
          <a:graphicData uri="http://schemas.openxmlformats.org/drawingml/2006/table">
            <a:tbl>
              <a:tblPr/>
              <a:tblGrid>
                <a:gridCol w="1817640"/>
                <a:gridCol w="3922920"/>
                <a:gridCol w="2489040"/>
              </a:tblGrid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аправ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Форма организац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Ф.И.О. руководител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Эстетическо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Кружок «Музыка вокруг нас»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Г.К. Удодов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Экологическо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Кружок «Природа и мы»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Кружок «Химия и жизнь»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Л.В. Погребе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.Н. Марки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Спортивно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Секция по баскетбол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Е.А. Мороз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Секция по волейбол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В.В. Шевченк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Секция по настольному теннис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С.Ф. Черный</a:t>
                      </a: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Секция по легкой атлетик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М.Н. Шутов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Объединение «Школа выживания»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А.Н. Фалынск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ЮИ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Кружок «Клаксон»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.Н. Горбенко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Техническо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Кружок «Радио маяк»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С.С. Еременко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редние баллы по ЕГЭ в 2011году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ИНФОРМАТИКА, средний балл в городе –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52,23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лучшие школы – 9, 14, 8, 31 – 4 место (</a:t>
            </a:r>
            <a:r>
              <a:rPr b="1" lang="en-US" sz="2400" spc="-1" strike="noStrike">
                <a:solidFill>
                  <a:srgbClr val="0078d2"/>
                </a:solidFill>
                <a:latin typeface="Times New Roman"/>
              </a:rPr>
              <a:t>59,0</a:t>
            </a:r>
            <a:r>
              <a:rPr b="1" lang="en-US" sz="2400" spc="-1" strike="noStrike">
                <a:solidFill>
                  <a:srgbClr val="895002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54" name="Object 4"/>
          <p:cNvGraphicFramePr/>
          <p:nvPr/>
        </p:nvGraphicFramePr>
        <p:xfrm>
          <a:off x="152280" y="1600200"/>
          <a:ext cx="899172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600200"/>
                    <a:ext cx="8991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20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аксимальное и минимальное количество баллов, полученное на ЕГЭ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57" name=""/>
          <p:cNvGraphicFramePr/>
          <p:nvPr/>
        </p:nvGraphicFramePr>
        <p:xfrm>
          <a:off x="152280" y="990720"/>
          <a:ext cx="8763120" cy="5794200"/>
        </p:xfrm>
        <a:graphic>
          <a:graphicData uri="http://schemas.openxmlformats.org/drawingml/2006/table">
            <a:tbl>
              <a:tblPr/>
              <a:tblGrid>
                <a:gridCol w="1524240"/>
                <a:gridCol w="1981080"/>
                <a:gridCol w="1447920"/>
                <a:gridCol w="1938240"/>
                <a:gridCol w="1871640"/>
              </a:tblGrid>
              <a:tr h="860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Предм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Максимальное количество балл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Минимальное количество балл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овочеркас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31 школ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овочеркас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31 школ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14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Русский язы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100 баллов (15 школа), 98 баллов (6, 19 школ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90 баллов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11 балл (11 школа)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48 баллов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Математика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80 баллов (9, 31 школы)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80 баллов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12 баллов (1, 2, 11 школы)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34 балл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152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Информатик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84 балла (8 школа)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59 баллов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10 баллов (12, 20 школы)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59 баллов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аксимальное и минимальное количество баллов, полученное на ЕГЭ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59" name=""/>
          <p:cNvGraphicFramePr/>
          <p:nvPr/>
        </p:nvGraphicFramePr>
        <p:xfrm>
          <a:off x="152280" y="914400"/>
          <a:ext cx="8763120" cy="5673600"/>
        </p:xfrm>
        <a:graphic>
          <a:graphicData uri="http://schemas.openxmlformats.org/drawingml/2006/table">
            <a:tbl>
              <a:tblPr/>
              <a:tblGrid>
                <a:gridCol w="1371600"/>
                <a:gridCol w="2165400"/>
                <a:gridCol w="1568520"/>
                <a:gridCol w="2057400"/>
                <a:gridCol w="160020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Предм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Максимальное количество балл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Минимальное количество балл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овочеркас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31 школ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овочеркас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31 школ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Физик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92 балла (14 школа), 84 балла (6, 9 школы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65 баллов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4 балла (2 школа), 17 баллов (19 школа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48 балл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Обществозна-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85 баллов (19 школа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80 балл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13 баллов (2  школа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42 балл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188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Литерату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100 баллов (1 школа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67 балл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14 баллов (11 школа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66 балл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solidFill>
                      <a:srgbClr val="fef4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аксимальное и минимальное количество баллов, полученное на ЕГЭ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61" name=""/>
          <p:cNvGraphicFramePr/>
          <p:nvPr/>
        </p:nvGraphicFramePr>
        <p:xfrm>
          <a:off x="228600" y="1371600"/>
          <a:ext cx="8763120" cy="530064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295280"/>
                <a:gridCol w="1981080"/>
                <a:gridCol w="1524240"/>
              </a:tblGrid>
              <a:tr h="863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Предм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576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99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Максимальное количество балл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576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Минимальное количество балл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овочеркас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31 школ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Новочеркас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31 школ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Биолог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Хим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Истор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13680">
                      <a:solidFill>
                        <a:srgbClr val="895002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Английский язы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13680">
                      <a:solidFill>
                        <a:srgbClr val="895002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895002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895002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2" name=""/>
          <p:cNvGraphicFramePr/>
          <p:nvPr/>
        </p:nvGraphicFramePr>
        <p:xfrm>
          <a:off x="351000" y="1401840"/>
          <a:ext cx="8656560" cy="5333760"/>
        </p:xfrm>
        <a:graphic>
          <a:graphicData uri="http://schemas.openxmlformats.org/drawingml/2006/table">
            <a:tbl>
              <a:tblPr/>
              <a:tblGrid>
                <a:gridCol w="8656560"/>
              </a:tblGrid>
              <a:tr h="53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</a:t>
                      </a:r>
                      <a:r>
                        <a:rPr b="1" lang="ru-RU" sz="2000" spc="-1" strike="noStrike">
                          <a:solidFill>
                            <a:srgbClr val="0078d2"/>
                          </a:solidFill>
                          <a:latin typeface="Times New Roman"/>
                        </a:rPr>
                        <a:t>91 балл (12 шко  86 баллов   17 баллов (1,        48 балл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8d2"/>
                          </a:solidFill>
                          <a:latin typeface="Times New Roman"/>
                        </a:rPr>
                        <a:t>                             </a:t>
                      </a:r>
                      <a:r>
                        <a:rPr b="1" lang="ru-RU" sz="2000" spc="-1" strike="noStrike">
                          <a:solidFill>
                            <a:srgbClr val="0078d2"/>
                          </a:solidFill>
                          <a:latin typeface="Times New Roman"/>
                        </a:rPr>
                        <a:t>ла)                                               7 школы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8d2"/>
                          </a:solidFill>
                          <a:latin typeface="Times New Roman"/>
                        </a:rPr>
                        <a:t>                              </a:t>
                      </a:r>
                      <a:r>
                        <a:rPr b="1" lang="ru-RU" sz="2000" spc="-1" strike="noStrike">
                          <a:solidFill>
                            <a:srgbClr val="0078d2"/>
                          </a:solidFill>
                          <a:latin typeface="Times New Roman"/>
                        </a:rPr>
                        <a:t>98 баллов (32      86 баллов   24 балла (1, 6,       29 балл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8d2"/>
                          </a:solidFill>
                          <a:latin typeface="Times New Roman"/>
                        </a:rPr>
                        <a:t>                              </a:t>
                      </a:r>
                      <a:r>
                        <a:rPr b="1" lang="ru-RU" sz="2000" spc="-1" strike="noStrike">
                          <a:solidFill>
                            <a:srgbClr val="0078d2"/>
                          </a:solidFill>
                          <a:latin typeface="Times New Roman"/>
                        </a:rPr>
                        <a:t>школа)                                      14, 20 школы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</a:t>
                      </a:r>
                      <a:r>
                        <a:rPr b="1" lang="ru-RU" sz="2000" spc="-1" strike="noStrike">
                          <a:solidFill>
                            <a:srgbClr val="0078d2"/>
                          </a:solidFill>
                          <a:latin typeface="Times New Roman"/>
                        </a:rPr>
                        <a:t>96 баллов (8        90 баллов    14 баллов (2, 6,   32 балла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8d2"/>
                          </a:solidFill>
                          <a:latin typeface="Times New Roman"/>
                        </a:rPr>
                        <a:t>                              </a:t>
                      </a:r>
                      <a:r>
                        <a:rPr b="1" lang="ru-RU" sz="2000" spc="-1" strike="noStrike">
                          <a:solidFill>
                            <a:srgbClr val="0078d2"/>
                          </a:solidFill>
                          <a:latin typeface="Times New Roman"/>
                        </a:rPr>
                        <a:t>школа)                                      9 школы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</a:t>
                      </a:r>
                      <a:r>
                        <a:rPr b="1" lang="ru-RU" sz="2000" spc="-1" strike="noStrike">
                          <a:solidFill>
                            <a:srgbClr val="0078d2"/>
                          </a:solidFill>
                          <a:latin typeface="Times New Roman"/>
                        </a:rPr>
                        <a:t>94 балла (14          79 баллов   17 баллов (6, 32  69 балл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8d2"/>
                          </a:solidFill>
                          <a:latin typeface="Times New Roman"/>
                        </a:rPr>
                        <a:t>                                </a:t>
                      </a:r>
                      <a:r>
                        <a:rPr b="1" lang="ru-RU" sz="2000" spc="-1" strike="noStrike">
                          <a:solidFill>
                            <a:srgbClr val="0078d2"/>
                          </a:solidFill>
                          <a:latin typeface="Times New Roman"/>
                        </a:rPr>
                        <a:t>школа)                                      школы)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Награждены Похвальными листами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64" name=""/>
          <p:cNvGraphicFramePr/>
          <p:nvPr/>
        </p:nvGraphicFramePr>
        <p:xfrm>
          <a:off x="228600" y="457200"/>
          <a:ext cx="8763120" cy="6462720"/>
        </p:xfrm>
        <a:graphic>
          <a:graphicData uri="http://schemas.openxmlformats.org/drawingml/2006/table">
            <a:tbl>
              <a:tblPr/>
              <a:tblGrid>
                <a:gridCol w="685800"/>
                <a:gridCol w="476280"/>
                <a:gridCol w="665280"/>
                <a:gridCol w="4979880"/>
                <a:gridCol w="195588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Ф. И. обучающихс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лассный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руководител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2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indent="-66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3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Адамова Ев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Лазаренко И. В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426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3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indent="-66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4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Касьянов Ники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Попова О. В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665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4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14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Кращенко Алина, Тененгольц Людмила, Столяров Андрей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Самохвалова Н. В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719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4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indent="-66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11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Богатырёва Юлия, Мартычев Игорь, Таскаева Марь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Калинина Т. 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7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indent="-66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4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Тронева Еле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Погребец Л. В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7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indent="-66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4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Важинская Викт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Дейнега С. Ф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8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indent="-66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4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Бондаренко Андре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Шевченко Л. И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40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8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indent="-66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4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Шевченко Маргарит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Федосова Т. 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435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10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indent="-66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7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Башук Валерия, Русакова Ан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Цветова Н. 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10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indent="-66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Караваева Анна, Москвичева Марин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a2800"/>
                          </a:solidFill>
                          <a:latin typeface="Times New Roman"/>
                          <a:ea typeface="Times New Roman"/>
                        </a:rPr>
                        <a:t>Макарова Е. В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20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55000"/>
                </a:solidFill>
                <a:latin typeface="Times New Roman"/>
              </a:rPr>
              <a:t>Количество участников </a:t>
            </a:r>
            <a:r>
              <a:rPr b="1" lang="en-US" sz="3200" spc="-1" strike="noStrike">
                <a:solidFill>
                  <a:srgbClr val="d55000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d55000"/>
                </a:solidFill>
                <a:latin typeface="Times New Roman"/>
              </a:rPr>
              <a:t> тура олимпиады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66" name=""/>
          <p:cNvGraphicFramePr/>
          <p:nvPr/>
        </p:nvGraphicFramePr>
        <p:xfrm>
          <a:off x="609480" y="533520"/>
          <a:ext cx="7315200" cy="6192720"/>
        </p:xfrm>
        <a:graphic>
          <a:graphicData uri="http://schemas.openxmlformats.org/drawingml/2006/table">
            <a:tbl>
              <a:tblPr/>
              <a:tblGrid>
                <a:gridCol w="3840120"/>
                <a:gridCol w="3475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Предмет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участник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Русский язы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Литература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Математика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История Отечеств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Обществознание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Право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Географи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Биологи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Экологи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Физика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Хими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Информатика и ИК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Физическая культура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ОБ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Английский язы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Немецкий язы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  <a:tr h="32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</a:rPr>
                        <a:t>Технолог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c3501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caaa"/>
                      </a:solidFill>
                    </a:lnL>
                    <a:lnR w="5760">
                      <a:solidFill>
                        <a:srgbClr val="ffcaaa"/>
                      </a:solidFill>
                    </a:lnR>
                    <a:lnT w="5760">
                      <a:solidFill>
                        <a:srgbClr val="ffcaaa"/>
                      </a:solidFill>
                    </a:lnT>
                    <a:lnB w="5760">
                      <a:solidFill>
                        <a:srgbClr val="ffcaaa"/>
                      </a:solidFill>
                    </a:lnB>
                    <a:solidFill>
                      <a:srgbClr val="fff6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a2800"/>
                </a:solidFill>
                <a:latin typeface="Times New Roman"/>
              </a:rPr>
              <a:t>ИТОГИ ГОРОДСКИХ ОЛИМПИАД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Победителем муниципального этапа Всероссийской предметной олимпиады школьников по биологии стал Лысенко Роман (9-а класс), учитель Баштанник Н. Е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2800"/>
                </a:solidFill>
                <a:latin typeface="Times New Roman"/>
              </a:rPr>
              <a:t>ПРИЗЁРЫ МУНИЦИПАЛЬНОГО ЭТАПА ВСЕРОССИЙСКИХ ПРЕДМЕТНЫХ ОЛИМПИАД ШКОЛЬНИКОВ: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8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029"/>
                </a:solidFill>
                <a:latin typeface="Times New Roman"/>
              </a:rPr>
              <a:t>- Мамонова Влада (7-б класс) – технология (учитель Мамонова С. И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029"/>
                </a:solidFill>
                <a:latin typeface="Times New Roman"/>
              </a:rPr>
              <a:t>- Лысенко Роман (9-а класс) – история (учитель Мороз И. В.), химия (Маркина Н. Н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029"/>
                </a:solidFill>
                <a:latin typeface="Times New Roman"/>
              </a:rPr>
              <a:t>- Башук Валерия (10-а класс) – обществознание (учитель Федосова Т. А.), химия (учитель Маркина Н. Н.), русский язык (учитель Горбенко Н. Н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029"/>
                </a:solidFill>
                <a:latin typeface="Times New Roman"/>
              </a:rPr>
              <a:t>- Дубинина Анастасия (10-а класс) – химия (учитель Маркина Н. Н.), экология (учитель Баштанник Н. Е.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029"/>
                </a:solidFill>
                <a:latin typeface="Times New Roman"/>
              </a:rPr>
              <a:t>- Русакова Анна (10-а) – физика (учитель Свинухова Н. Ф.), искусство и МХК (учитель Федосова Т. А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029"/>
                </a:solidFill>
                <a:latin typeface="Times New Roman"/>
              </a:rPr>
              <a:t>- Корниенко Кирилл (11-а класс) – математика (Юсупова Л. Л.), химия (учител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029"/>
                </a:solidFill>
                <a:latin typeface="Times New Roman"/>
              </a:rPr>
              <a:t>Маркина Н. Н.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029"/>
                </a:solidFill>
                <a:latin typeface="Times New Roman"/>
              </a:rPr>
              <a:t>- Фатьянов Кирилл (11-а класс) – география (учитель Цветова Н. А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029"/>
                </a:solidFill>
                <a:latin typeface="Times New Roman"/>
              </a:rPr>
              <a:t>- Башук Евгения (10-а класс) – биология (учитель Баштанник Н. Е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029"/>
                </a:solidFill>
                <a:latin typeface="Times New Roman"/>
              </a:rPr>
              <a:t>- Фетисов Никита (11-а класс) – ОБЖ (учитель Мороз И. В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2800"/>
                </a:solidFill>
                <a:latin typeface="Times New Roman"/>
              </a:rPr>
              <a:t>ПРИЗЁРЫ РЕГИОНАЛЬНОГО ЭТАПА ВСЕРОССИЙСКИХ ПРЕДМЕТНЫХ ОЛИМПИАД ШКОЛЬНИКОВ: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7029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Башук Валерия (10-а класс) – обществознание (учитель Федосова Т. А.)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- Башук Евгения (10-а класс) – биология (учитель Баштанник Н. Е.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инамика повышения квалификации педагогических работников школы через посещение курсов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74" name=""/>
          <p:cNvGraphicFramePr/>
          <p:nvPr/>
        </p:nvGraphicFramePr>
        <p:xfrm>
          <a:off x="228600" y="1371600"/>
          <a:ext cx="8763120" cy="5105520"/>
        </p:xfrm>
        <a:graphic>
          <a:graphicData uri="http://schemas.openxmlformats.org/drawingml/2006/table">
            <a:tbl>
              <a:tblPr/>
              <a:tblGrid>
                <a:gridCol w="1523880"/>
                <a:gridCol w="1447920"/>
                <a:gridCol w="2286000"/>
                <a:gridCol w="1676520"/>
                <a:gridCol w="1828800"/>
              </a:tblGrid>
              <a:tr h="9763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чебный 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ид кур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рошедших курс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% от общ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числа педагог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</a:tr>
              <a:tr h="120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ПК и ПР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нформационные технолог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632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8-200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</a:tr>
              <a:tr h="97632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9-20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</a:tr>
              <a:tr h="97632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10-20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 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7680" marR="67680">
                    <a:lnL w="5760">
                      <a:solidFill>
                        <a:srgbClr val="a65f02"/>
                      </a:solidFill>
                    </a:lnL>
                    <a:lnR w="5760">
                      <a:solidFill>
                        <a:srgbClr val="a65f02"/>
                      </a:solidFill>
                    </a:lnR>
                    <a:lnT w="5760">
                      <a:solidFill>
                        <a:srgbClr val="a65f02"/>
                      </a:solidFill>
                    </a:lnT>
                    <a:lnB w="5760">
                      <a:solidFill>
                        <a:srgbClr val="a65f02"/>
                      </a:solidFill>
                    </a:lnB>
                    <a:solidFill>
                      <a:srgbClr val="f1ea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0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05" dur="30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Участие обучаемых в УДО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988" name=""/>
          <p:cNvGraphicFramePr/>
          <p:nvPr/>
        </p:nvGraphicFramePr>
        <p:xfrm>
          <a:off x="228600" y="1600200"/>
          <a:ext cx="8686800" cy="4056120"/>
        </p:xfrm>
        <a:graphic>
          <a:graphicData uri="http://schemas.openxmlformats.org/drawingml/2006/table">
            <a:tbl>
              <a:tblPr/>
              <a:tblGrid>
                <a:gridCol w="1219320"/>
                <a:gridCol w="1066680"/>
                <a:gridCol w="1219320"/>
                <a:gridCol w="1066680"/>
                <a:gridCol w="1054080"/>
                <a:gridCol w="1079640"/>
                <a:gridCol w="761760"/>
                <a:gridCol w="1219320"/>
              </a:tblGrid>
              <a:tr h="572760"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СОШ № 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Д город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учащихс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ственно-эстети-ческа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-ная направлен-но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охват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ственно-эстети-ческ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-на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охват учащихс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-20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инамика повышения уровня квалификации педагогических кадров школы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76" name=""/>
          <p:cNvGraphicFramePr/>
          <p:nvPr/>
        </p:nvGraphicFramePr>
        <p:xfrm>
          <a:off x="152280" y="1295280"/>
          <a:ext cx="8610840" cy="4019760"/>
        </p:xfrm>
        <a:graphic>
          <a:graphicData uri="http://schemas.openxmlformats.org/drawingml/2006/table">
            <a:tbl>
              <a:tblPr/>
              <a:tblGrid>
                <a:gridCol w="1432080"/>
                <a:gridCol w="1431720"/>
                <a:gridCol w="1432080"/>
                <a:gridCol w="1432080"/>
                <a:gridCol w="1441440"/>
                <a:gridCol w="1441440"/>
              </a:tblGrid>
              <a:tr h="305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Учебный 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Присвоена катег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количеств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прошедши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аттестац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% от общ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числ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педагог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</a:tr>
              <a:tr h="182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высш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катег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перв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катег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втор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катег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2008-200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2009-20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2010-20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d4702"/>
                          </a:solidFill>
                          <a:latin typeface="Times New Roman"/>
                        </a:rPr>
                        <a:t>2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d55000"/>
                      </a:solidFill>
                    </a:lnL>
                    <a:lnR w="18720">
                      <a:solidFill>
                        <a:srgbClr val="d55000"/>
                      </a:solidFill>
                    </a:lnR>
                    <a:lnT w="18720">
                      <a:solidFill>
                        <a:srgbClr val="d55000"/>
                      </a:solidFill>
                    </a:lnT>
                    <a:lnB w="18720">
                      <a:solidFill>
                        <a:srgbClr val="d55000"/>
                      </a:solidFill>
                    </a:lnB>
                    <a:solidFill>
                      <a:srgbClr val="caada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55000"/>
                </a:solidFill>
                <a:uFillTx/>
                <a:latin typeface="Times New Roman"/>
              </a:rPr>
              <a:t>Целевые приоритеты деятельности педагогического коллектива на 2011-2012 учебный год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еспечение ежегодного достижения учащимися уровня обязательной подготовки по основным учебным предметам, необходимого для дальнейшего успешного обуч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истематическая подготовка выпускников школы к технологиям ЕГЭ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зучение федеральных государственных образовательных стандартов начального общего и основного общего образования, примерных программ с целью реализации обновлённых образовательных стандартов; внедрение федерального государственного образовательного стандарта начального общего образования второго поколения (1, 2 классы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беспечение соблюдения  оптимальной образовательной нагрузки и педагогических технологий возрастно-половым и индивидуальным особенностям учащихся с целью сохранения их здоровь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нение современных педагогических технологий, в том числе информационных, обеспечивающих поддержку как изучения отдельных учебных предметов, так и образовательного процесса в цело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витие гражданских, нравственных качеств личности, творческих способностей, исследовательских умений учащихс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ормирование личности, адаптивной к жизни в обществе, подготовка выпускников школы к работе в новых экономических условиях, к выбору профессии, к самостоятельному решению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2000" fill="hold"/>
                                        <p:tgtEl>
                                          <p:spTgt spid="20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WordArt 4"/>
          <p:cNvSpPr txBox="1"/>
          <p:nvPr/>
        </p:nvSpPr>
        <p:spPr>
          <a:xfrm>
            <a:off x="533520" y="1219320"/>
            <a:ext cx="7924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елаем успехов и побед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2011-2012 учебном году!!!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20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9" name=""/>
          <p:cNvGraphicFramePr/>
          <p:nvPr/>
        </p:nvGraphicFramePr>
        <p:xfrm>
          <a:off x="457200" y="228600"/>
          <a:ext cx="8305920" cy="6324480"/>
        </p:xfrm>
        <a:graphic>
          <a:graphicData uri="http://schemas.openxmlformats.org/drawingml/2006/table">
            <a:tbl>
              <a:tblPr/>
              <a:tblGrid>
                <a:gridCol w="731880"/>
                <a:gridCol w="3382920"/>
                <a:gridCol w="2070000"/>
                <a:gridCol w="2121120"/>
              </a:tblGrid>
              <a:tr h="1338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Наименование кружка, клуба, сек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уководител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Кружок </a:t>
                      </a: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Музыка вокруг нас</a:t>
                      </a: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эстетическо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Удодова Г.К.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Кружок </a:t>
                      </a: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Клаксон</a:t>
                      </a: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ЮИД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Дейнега С.Ф.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Секция по баскетболу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спортивно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Мороз Е.А.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Секция по волейболу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спортивно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Шевченко В.В.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ОФП начальная подготовк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спортивно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Мороз Е.А.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0" name=""/>
          <p:cNvGraphicFramePr/>
          <p:nvPr/>
        </p:nvGraphicFramePr>
        <p:xfrm>
          <a:off x="457200" y="762120"/>
          <a:ext cx="8229600" cy="4817880"/>
        </p:xfrm>
        <a:graphic>
          <a:graphicData uri="http://schemas.openxmlformats.org/drawingml/2006/table">
            <a:tbl>
              <a:tblPr/>
              <a:tblGrid>
                <a:gridCol w="914400"/>
                <a:gridCol w="1523880"/>
                <a:gridCol w="1295640"/>
                <a:gridCol w="1143000"/>
                <a:gridCol w="914400"/>
                <a:gridCol w="2438280"/>
              </a:tblGrid>
              <a:tr h="2377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Учеб-ный го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Состоит на внутри-школьном учет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Состоит на учете в ПД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Кол-во преступ-лен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Кол-во право-нару-шен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Распитие алкогольной или спиртосодержащей продукции несовершенно-летним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10 челове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8 челове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10 челове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5 челове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4 человек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2 протокол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4 протокол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78d2"/>
                          </a:solidFill>
                          <a:latin typeface="Times New Roman"/>
                          <a:ea typeface="Times New Roman"/>
                        </a:rPr>
                        <a:t>4 протокол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1" name="Line 31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32"/>
          <p:cNvSpPr/>
          <p:nvPr/>
        </p:nvSpPr>
        <p:spPr>
          <a:xfrm>
            <a:off x="457200" y="45720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3" name="" descr=""/>
          <p:cNvPicPr/>
          <p:nvPr/>
        </p:nvPicPr>
        <p:blipFill>
          <a:blip r:embed="rId2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sp>
        <p:nvSpPr>
          <p:cNvPr id="1994" name="Rectangle 6"/>
          <p:cNvSpPr/>
          <p:nvPr/>
        </p:nvSpPr>
        <p:spPr>
          <a:xfrm>
            <a:off x="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5" name="Object 5"/>
          <p:cNvGraphicFramePr/>
          <p:nvPr/>
        </p:nvGraphicFramePr>
        <p:xfrm>
          <a:off x="457200" y="304920"/>
          <a:ext cx="8229600" cy="57909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9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04920"/>
                    <a:ext cx="82296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998" name=""/>
          <p:cNvGraphicFramePr/>
          <p:nvPr/>
        </p:nvGraphicFramePr>
        <p:xfrm>
          <a:off x="152280" y="266760"/>
          <a:ext cx="8839440" cy="6597720"/>
        </p:xfrm>
        <a:graphic>
          <a:graphicData uri="http://schemas.openxmlformats.org/drawingml/2006/table">
            <a:tbl>
              <a:tblPr/>
              <a:tblGrid>
                <a:gridCol w="2362320"/>
                <a:gridCol w="1371600"/>
                <a:gridCol w="1447920"/>
                <a:gridCol w="1218960"/>
                <a:gridCol w="1067040"/>
                <a:gridCol w="1371600"/>
              </a:tblGrid>
              <a:tr h="524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6a03"/>
                          </a:solidFill>
                          <a:latin typeface="Times New Roman"/>
                        </a:rPr>
                        <a:t>Категор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2010 – 2011 учебный го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 ст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 ст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 ст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640" indent="-176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6a03"/>
                          </a:solidFill>
                          <a:latin typeface="Times New Roman"/>
                        </a:rPr>
                        <a:t>Всего уч-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24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28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59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6a03"/>
                          </a:solidFill>
                          <a:latin typeface="Times New Roman"/>
                        </a:rPr>
                        <a:t>Отличник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6a03"/>
                          </a:solidFill>
                          <a:latin typeface="Times New Roman"/>
                        </a:rPr>
                        <a:t>Хорошист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6a03"/>
                          </a:solidFill>
                          <a:latin typeface="Times New Roman"/>
                        </a:rPr>
                        <a:t>Условно переведен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b76a03"/>
                          </a:solidFill>
                          <a:latin typeface="Times New Roman"/>
                        </a:rPr>
                        <a:t>Второгодник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b76a03"/>
                          </a:solidFill>
                          <a:latin typeface="Times New Roman"/>
                        </a:rPr>
                        <a:t>Уровень обуч., 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b76a03"/>
                          </a:solidFill>
                          <a:latin typeface="Times New Roman"/>
                        </a:rPr>
                        <a:t>Кач-во знаний, 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f73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b76a03"/>
                      </a:solidFill>
                    </a:lnL>
                    <a:lnR w="18720">
                      <a:solidFill>
                        <a:srgbClr val="b76a03"/>
                      </a:solidFill>
                    </a:lnR>
                    <a:lnT w="18720">
                      <a:solidFill>
                        <a:srgbClr val="b76a03"/>
                      </a:solidFill>
                    </a:lnT>
                    <a:lnB w="18720">
                      <a:solidFill>
                        <a:srgbClr val="b76a03"/>
                      </a:solidFill>
                    </a:lnB>
                    <a:solidFill>
                      <a:srgbClr val="fef4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Динамика успеваемости по предметам и образовательным областям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00" name=""/>
          <p:cNvGraphicFramePr/>
          <p:nvPr/>
        </p:nvGraphicFramePr>
        <p:xfrm>
          <a:off x="457200" y="304920"/>
          <a:ext cx="8229600" cy="6435720"/>
        </p:xfrm>
        <a:graphic>
          <a:graphicData uri="http://schemas.openxmlformats.org/drawingml/2006/table">
            <a:tbl>
              <a:tblPr/>
              <a:tblGrid>
                <a:gridCol w="3152880"/>
                <a:gridCol w="1268280"/>
                <a:gridCol w="1268280"/>
                <a:gridCol w="1268640"/>
                <a:gridCol w="1271520"/>
              </a:tblGrid>
              <a:tr h="353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 полугоди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обученности, %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ачество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знаний, %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обученности, %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качество 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знаний, %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5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6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1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8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Литература, литературное чтени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8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1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8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1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7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1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7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54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Математика, алгебра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6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6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Геометрия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5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5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5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6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7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Окружающий мир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1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8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1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1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7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1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5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5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1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6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5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5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5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7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1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8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История, история Отечества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6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7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Всеобщая история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7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7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9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7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1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7d4702"/>
                          </a:solidFill>
                          <a:latin typeface="Arial"/>
                        </a:rPr>
                        <a:t>7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ef4f6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ия</dc:creator>
  <dc:description/>
  <dc:language>en-US</dc:language>
  <cp:lastModifiedBy>Пользователь</cp:lastModifiedBy>
  <dcterms:modified xsi:type="dcterms:W3CDTF">2012-06-15T10:23:37Z</dcterms:modified>
  <cp:revision>1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